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43F3-9FA6-4051-8908-F2A6DF64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E01C-3803-4602-8611-E638C537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E8E7-41F9-45DC-8AC6-64674B9A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D111-E75C-4F9E-804F-F379A53B6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D35D-E198-4ED2-98A5-09C83FA6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B0AE-44A2-48CA-8950-131F80D1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F6AD-4396-4047-B42E-77F91479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23C7-8355-46E9-9C9F-DCD9DD46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0297-E8FD-4005-8E6A-68F78FE8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BF26-5511-4E24-95EA-CC129C47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C1C1-83C3-48CA-8EF9-99E73A5A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6EC0-DA20-4B9C-BF23-66213A38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0F4E-572E-4234-8F80-F0C615B9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4735-981D-4832-93A5-0F6F8B7C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EC84-3E84-489B-9C26-3ED69F98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6888-80C5-4172-A439-08327DE7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4E0D-EEC2-4110-B3BB-A352E2A9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F392-2393-40D2-951D-9DE16357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08ED-DBF8-440E-8836-B4A57346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D51C-42F5-46BE-A1B4-FB414ED3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93D2-E6E7-4D18-9851-6344DA3A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D682-BE9A-46DC-9B26-D6E18B9C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E733-CD30-457F-A1D0-C07294F7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4635-9C81-4DD5-8D2B-3275E119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A2CA-17E6-4027-BB9D-3F0252374EB2}" type="slidenum">
              <a:rPr b="0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15E2-A394-4953-BB9B-0DBD8C365604}" type="slidenum">
              <a:rPr b="0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468360" y="189000"/>
            <a:ext cx="842472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ажаемые жители Междуреченского сельского поселения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д вами бюджет, в котором в краткой и доступной форме отражены основные параметры бюджета Междуреченского сельского поселения на 2016 год и плановый период 2017 и 2018 год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ные изложены так, чтобы каждый мог понять, на какие цели и в каком объеме направляются бюджетные сред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2016 году бюджет практически полностью перейдет на «программный бюджет». 56% расходов бюджета распределено в рамках 9 муниципальных програм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деемся, что представление бюджета сельского поселения в понятной и доступной форме повысит уровень общественного участия граждан в бюджетном процессе Междуреченского сельского посе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Междуреченского сельского посе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Times New Roman"/>
              </a:rPr>
              <a:t>Неналоговые доходы </a:t>
            </a:r>
            <a:r>
              <a:rPr b="0" lang="ru-RU" sz="3600" spc="-1" strike="noStrike">
                <a:solidFill>
                  <a:srgbClr val="dbf5f9"/>
                </a:solidFill>
                <a:latin typeface="Times New Roman"/>
              </a:rPr>
              <a:t>- </a:t>
            </a:r>
            <a:r>
              <a:rPr b="0" lang="ru-RU" sz="2900" spc="-1" strike="noStrike">
                <a:solidFill>
                  <a:srgbClr val="dbf5f9"/>
                </a:solidFill>
                <a:latin typeface="Times New Roman"/>
              </a:rPr>
              <a:t>это поступления от уплаты пошлин  и сборов, установленных законодательством РФ</a:t>
            </a:r>
            <a:endParaRPr b="0" lang="en-US" sz="29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Доходы от сдачи в аренду имуще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Доходы от продажи имуще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чие неналоговые доход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Times New Roman"/>
              </a:rPr>
              <a:t>Безвозмездные поступления </a:t>
            </a:r>
            <a:r>
              <a:rPr b="0" lang="ru-RU" sz="4000" spc="-1" strike="noStrike">
                <a:solidFill>
                  <a:srgbClr val="dbf5f9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dbf5f9"/>
                </a:solidFill>
                <a:latin typeface="Times New Roman"/>
              </a:rPr>
              <a:t>это поступления от других бюджетов РФ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тации (предоставляются без определения конкретной цели их использования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убвенции (предоставляются на финансирование переданных полномочий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убсидии (предоставляются на условиях долевого софинансирования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Organization Chart 4"/>
          <p:cNvGrpSpPr/>
          <p:nvPr/>
        </p:nvGrpSpPr>
        <p:grpSpPr>
          <a:xfrm>
            <a:off x="468360" y="476280"/>
            <a:ext cx="8228880" cy="5681520"/>
            <a:chOff x="468360" y="476280"/>
            <a:chExt cx="8228880" cy="5681520"/>
          </a:xfrm>
        </p:grpSpPr>
        <p:cxnSp>
          <p:nvCxnSpPr>
            <p:cNvPr id="121" name="_s1028"/>
            <p:cNvCxnSpPr>
              <a:stCxn id="122" idx="0"/>
              <a:endCxn id="123" idx="2"/>
            </p:cNvCxnSpPr>
            <p:nvPr/>
          </p:nvCxnSpPr>
          <p:spPr>
            <a:xfrm flipV="1" rot="16200000">
              <a:off x="5614560" y="1716120"/>
              <a:ext cx="1136880" cy="3201120"/>
            </a:xfrm>
            <a:prstGeom prst="bentConnector3">
              <a:avLst>
                <a:gd name="adj1" fmla="val 12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4" name="_s1029"/>
            <p:cNvCxnSpPr>
              <a:stCxn id="125" idx="0"/>
              <a:endCxn id="123" idx="2"/>
            </p:cNvCxnSpPr>
            <p:nvPr/>
          </p:nvCxnSpPr>
          <p:spPr>
            <a:xfrm flipV="1" rot="16200000">
              <a:off x="4547520" y="2783160"/>
              <a:ext cx="1136880" cy="1067400"/>
            </a:xfrm>
            <a:prstGeom prst="bentConnector3">
              <a:avLst>
                <a:gd name="adj1" fmla="val 12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6" name="_s1030"/>
            <p:cNvCxnSpPr>
              <a:stCxn id="127" idx="0"/>
              <a:endCxn id="123" idx="2"/>
            </p:cNvCxnSpPr>
            <p:nvPr/>
          </p:nvCxnSpPr>
          <p:spPr>
            <a:xfrm flipH="1" flipV="1" rot="5400000">
              <a:off x="3480840" y="2783520"/>
              <a:ext cx="1136880" cy="1067040"/>
            </a:xfrm>
            <a:prstGeom prst="bentConnector3">
              <a:avLst>
                <a:gd name="adj1" fmla="val 12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8" name="_s1031"/>
            <p:cNvCxnSpPr>
              <a:stCxn id="129" idx="0"/>
              <a:endCxn id="123" idx="2"/>
            </p:cNvCxnSpPr>
            <p:nvPr/>
          </p:nvCxnSpPr>
          <p:spPr>
            <a:xfrm flipH="1" flipV="1" rot="5400000">
              <a:off x="2413800" y="1716480"/>
              <a:ext cx="1136880" cy="3200760"/>
            </a:xfrm>
            <a:prstGeom prst="bentConnector3">
              <a:avLst>
                <a:gd name="adj1" fmla="val 12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3" name="_s1032"/>
            <p:cNvSpPr/>
            <p:nvPr/>
          </p:nvSpPr>
          <p:spPr>
            <a:xfrm>
              <a:off x="3668400" y="47628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Составление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проекта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бюджет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основано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НА :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_s1033"/>
            <p:cNvSpPr/>
            <p:nvPr/>
          </p:nvSpPr>
          <p:spPr>
            <a:xfrm>
              <a:off x="468360" y="388512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бюджетном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Послани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Президента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РФ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_s1034"/>
            <p:cNvSpPr/>
            <p:nvPr/>
          </p:nvSpPr>
          <p:spPr>
            <a:xfrm>
              <a:off x="2601720" y="388512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прогнозе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социально-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экономического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развития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_s1035"/>
            <p:cNvSpPr/>
            <p:nvPr/>
          </p:nvSpPr>
          <p:spPr>
            <a:xfrm>
              <a:off x="4735440" y="388512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основных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направлениях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бюджетно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и налоговой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политик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_s1036"/>
            <p:cNvSpPr/>
            <p:nvPr/>
          </p:nvSpPr>
          <p:spPr>
            <a:xfrm>
              <a:off x="6868800" y="388512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муниципальных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программах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692280"/>
            <a:ext cx="803124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dbf5f9"/>
                </a:solidFill>
                <a:latin typeface="Times New Roman"/>
              </a:rPr>
              <a:t>Основные направления </a:t>
            </a:r>
            <a:br>
              <a:rPr sz="3600"/>
            </a:br>
            <a:r>
              <a:rPr b="1" lang="ru-RU" sz="3600" spc="-1" strike="noStrike">
                <a:solidFill>
                  <a:srgbClr val="dbf5f9"/>
                </a:solidFill>
                <a:latin typeface="Times New Roman"/>
              </a:rPr>
              <a:t>бюджетной политики</a:t>
            </a:r>
            <a:br>
              <a:rPr sz="3600"/>
            </a:br>
            <a:r>
              <a:rPr b="1" lang="ru-RU" sz="3600" spc="-1" strike="noStrike">
                <a:solidFill>
                  <a:srgbClr val="dbf5f9"/>
                </a:solidFill>
                <a:latin typeface="Times New Roman"/>
              </a:rPr>
              <a:t>на 2016-2018 года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528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величение собираемости платежей в бюджет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тимизация и повышение эффективности бюджетных расходов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ффективное управление муниципальной собственностью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работка и принятие муниципальных програм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нимизация бюджетного дефици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Times New Roman"/>
              </a:rPr>
              <a:t>Основные характеристики бюджета Междуреченского сельского поселения</a:t>
            </a:r>
            <a:br>
              <a:rPr sz="3200"/>
            </a:br>
            <a:r>
              <a:rPr b="1" lang="ru-RU" sz="3200" spc="-1" strike="noStrike">
                <a:solidFill>
                  <a:srgbClr val="dbf5f9"/>
                </a:solidFill>
                <a:latin typeface="Times New Roman"/>
              </a:rPr>
              <a:t> на 2016-2018 годы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95280" y="1989000"/>
          <a:ext cx="8353440" cy="3711600"/>
        </p:xfrm>
        <a:graphic>
          <a:graphicData uri="http://schemas.openxmlformats.org/drawingml/2006/table">
            <a:tbl>
              <a:tblPr/>
              <a:tblGrid>
                <a:gridCol w="725400"/>
                <a:gridCol w="3832200"/>
                <a:gridCol w="1265400"/>
                <a:gridCol w="1265040"/>
                <a:gridCol w="1265400"/>
              </a:tblGrid>
              <a:tr h="62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6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67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52,8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733,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566,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логовые и неналоговые до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42,68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736,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754,8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10,16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996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11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52,8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733,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566,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ФИЦИТ (-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ФИЦИТ (+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bf5f9"/>
                </a:solidFill>
                <a:latin typeface="Times New Roman"/>
              </a:rPr>
              <a:t>Доходы бюджета</a:t>
            </a:r>
            <a:br>
              <a:rPr sz="2500"/>
            </a:br>
            <a:r>
              <a:rPr b="1" lang="ru-RU" sz="2500" spc="-1" strike="noStrike">
                <a:solidFill>
                  <a:srgbClr val="dbf5f9"/>
                </a:solidFill>
                <a:latin typeface="Times New Roman"/>
              </a:rPr>
              <a:t>Междуреченского сельского поселения </a:t>
            </a:r>
            <a:br>
              <a:rPr sz="2500"/>
            </a:br>
            <a:r>
              <a:rPr b="1" lang="ru-RU" sz="2500" spc="-1" strike="noStrike">
                <a:solidFill>
                  <a:srgbClr val="dbf5f9"/>
                </a:solidFill>
                <a:latin typeface="Times New Roman"/>
              </a:rPr>
              <a:t>на 2016-2018 годы</a:t>
            </a:r>
            <a:endParaRPr b="0" lang="en-US" sz="25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71680" y="1214280"/>
          <a:ext cx="8218440" cy="4813560"/>
        </p:xfrm>
        <a:graphic>
          <a:graphicData uri="http://schemas.openxmlformats.org/drawingml/2006/table">
            <a:tbl>
              <a:tblPr/>
              <a:tblGrid>
                <a:gridCol w="4319280"/>
                <a:gridCol w="927360"/>
                <a:gridCol w="1073160"/>
                <a:gridCol w="944280"/>
                <a:gridCol w="954360"/>
              </a:tblGrid>
              <a:tr h="100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Норматив зачисления в местный бюдж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16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17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.Налоговые дох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455,6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349,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367,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НДФ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772,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783,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796,7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Акцизы на нефтепродукты (бензин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995,2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852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852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Налог на имущество  физических  ли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7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8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8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Налог на зем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56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58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58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7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7,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7,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Государственная пошл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1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1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1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.Неналоговые дох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87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87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87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5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Доходы от сдачи в аренду имуще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7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Прочие неналоговые дох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4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4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4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Доходы от предоставления платных услу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6480" y="475920"/>
            <a:ext cx="814716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39640" y="492120"/>
          <a:ext cx="8280360" cy="4919760"/>
        </p:xfrm>
        <a:graphic>
          <a:graphicData uri="http://schemas.openxmlformats.org/drawingml/2006/table">
            <a:tbl>
              <a:tblPr/>
              <a:tblGrid>
                <a:gridCol w="5032440"/>
                <a:gridCol w="1093680"/>
                <a:gridCol w="1071720"/>
                <a:gridCol w="1082520"/>
              </a:tblGrid>
              <a:tr h="592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16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17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.Безвозмездные поступ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6210,1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6996,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811,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Дот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958,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676,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676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Межбюджетные трансфер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89,3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77,7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77,7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Субвен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60,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242,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7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Субвенции бюджетам на осуществление первичного воинского учета на территориях, где отсутствуют военные комиссариа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60,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7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7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4617b"/>
                          </a:solidFill>
                          <a:latin typeface="Times New Roman"/>
                          <a:ea typeface="Times New Roman"/>
                        </a:rPr>
                        <a:t>Субвенция на  предоставление  жилых помещений детям-сиротам и детям, оставшимся без попечения родител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185,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ВСЕГО  ДОХОДОВ 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2052,8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2733,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1566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Структура доходов бюджета</a:t>
            </a:r>
            <a:br>
              <a:rPr sz="4500"/>
            </a:br>
            <a:r>
              <a:rPr b="1" lang="ru-RU" sz="45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в 2016 году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9" name="Таблица 3" descr=""/>
          <p:cNvPicPr/>
          <p:nvPr/>
        </p:nvPicPr>
        <p:blipFill>
          <a:blip r:embed="rId1"/>
          <a:stretch/>
        </p:blipFill>
        <p:spPr>
          <a:xfrm>
            <a:off x="644400" y="1600200"/>
            <a:ext cx="7853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Структура доходов бюджета</a:t>
            </a:r>
            <a:br>
              <a:rPr sz="4500"/>
            </a:br>
            <a:r>
              <a:rPr b="1" lang="ru-RU" sz="45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в 2017 году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1" name="Объект 4" descr=""/>
          <p:cNvPicPr/>
          <p:nvPr/>
        </p:nvPicPr>
        <p:blipFill>
          <a:blip r:embed="rId1"/>
          <a:stretch/>
        </p:blipFill>
        <p:spPr>
          <a:xfrm>
            <a:off x="712800" y="1935000"/>
            <a:ext cx="77169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Структура доходов бюджета</a:t>
            </a:r>
            <a:br>
              <a:rPr sz="4500"/>
            </a:br>
            <a:r>
              <a:rPr b="1" lang="ru-RU" sz="45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в 2018 году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3" name="Объект 3" descr=""/>
          <p:cNvPicPr/>
          <p:nvPr/>
        </p:nvPicPr>
        <p:blipFill>
          <a:blip r:embed="rId1"/>
          <a:stretch/>
        </p:blipFill>
        <p:spPr>
          <a:xfrm>
            <a:off x="922320" y="1935000"/>
            <a:ext cx="72993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4360" y="714240"/>
            <a:ext cx="777240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БЮДЖЕТ</a:t>
            </a:r>
            <a:br>
              <a:rPr sz="4800"/>
            </a:br>
            <a:r>
              <a:rPr b="1" lang="ru-RU" sz="4800" spc="-1" strike="noStrike">
                <a:solidFill>
                  <a:srgbClr val="dbf5f9"/>
                </a:solidFill>
                <a:latin typeface="Times New Roman"/>
              </a:rPr>
              <a:t> </a:t>
            </a: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для</a:t>
            </a:r>
            <a:r>
              <a:rPr b="1" lang="ru-RU" sz="8800" spc="-1" strike="noStrike">
                <a:solidFill>
                  <a:srgbClr val="dbf5f9"/>
                </a:solidFill>
                <a:latin typeface="Times New Roman"/>
              </a:rPr>
              <a:t> </a:t>
            </a: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граждан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dbf5f9"/>
                </a:solidFill>
                <a:latin typeface="Times New Roman"/>
              </a:rPr>
              <a:t>к бюджета Междуреченского сельского поселения на 2016 год и плановый период 2017 и 2018 годов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15 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Times New Roman"/>
              </a:rPr>
              <a:t>Расходы бюджета в 2016-2018 годах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9640" y="765000"/>
          <a:ext cx="8050320" cy="5546880"/>
        </p:xfrm>
        <a:graphic>
          <a:graphicData uri="http://schemas.openxmlformats.org/drawingml/2006/table">
            <a:tbl>
              <a:tblPr/>
              <a:tblGrid>
                <a:gridCol w="1136880"/>
                <a:gridCol w="3047760"/>
                <a:gridCol w="1447920"/>
                <a:gridCol w="1203480"/>
                <a:gridCol w="1214280"/>
              </a:tblGrid>
              <a:tr h="57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,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52,8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733,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566,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государственные расх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769,6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639,8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626,6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,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7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7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ц. безопасность и правоохран. 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06,1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37,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37,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К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53,2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58,0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5,7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98,6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91,3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91,3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3,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78,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3,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Структура расходов бюджета </a:t>
            </a:r>
            <a:br>
              <a:rPr sz="4500"/>
            </a:br>
            <a:r>
              <a:rPr b="1" lang="ru-RU" sz="45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в 2016 году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7" name="Объект 5" descr=""/>
          <p:cNvPicPr/>
          <p:nvPr/>
        </p:nvPicPr>
        <p:blipFill>
          <a:blip r:embed="rId1"/>
          <a:stretch/>
        </p:blipFill>
        <p:spPr>
          <a:xfrm>
            <a:off x="954000" y="1881360"/>
            <a:ext cx="739944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Структура расходов бюджета </a:t>
            </a:r>
            <a:br>
              <a:rPr sz="4500"/>
            </a:br>
            <a:r>
              <a:rPr b="1" lang="ru-RU" sz="45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в 2017 году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9" name="Объект 3" descr=""/>
          <p:cNvPicPr/>
          <p:nvPr/>
        </p:nvPicPr>
        <p:blipFill>
          <a:blip r:embed="rId1"/>
          <a:stretch/>
        </p:blipFill>
        <p:spPr>
          <a:xfrm>
            <a:off x="57240" y="1433520"/>
            <a:ext cx="89582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Структура расходов бюджета </a:t>
            </a:r>
            <a:br>
              <a:rPr sz="4500"/>
            </a:br>
            <a:r>
              <a:rPr b="1" lang="ru-RU" sz="45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в 2018 году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1" name="Объект 3" descr=""/>
          <p:cNvPicPr/>
          <p:nvPr/>
        </p:nvPicPr>
        <p:blipFill>
          <a:blip r:embed="rId1"/>
          <a:stretch/>
        </p:blipFill>
        <p:spPr>
          <a:xfrm>
            <a:off x="871560" y="1935000"/>
            <a:ext cx="7399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Times New Roman"/>
              </a:rPr>
              <a:t>Раздел 01</a:t>
            </a:r>
            <a:br>
              <a:rPr sz="3600"/>
            </a:br>
            <a:r>
              <a:rPr b="1" lang="ru-RU" sz="3600" spc="-1" strike="noStrike">
                <a:solidFill>
                  <a:srgbClr val="dbf5f9"/>
                </a:solidFill>
                <a:latin typeface="Times New Roman"/>
              </a:rPr>
              <a:t> «Общегосударственные расходы»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42960" y="1357200"/>
          <a:ext cx="8053200" cy="5102280"/>
        </p:xfrm>
        <a:graphic>
          <a:graphicData uri="http://schemas.openxmlformats.org/drawingml/2006/table">
            <a:tbl>
              <a:tblPr/>
              <a:tblGrid>
                <a:gridCol w="784080"/>
                <a:gridCol w="1059120"/>
                <a:gridCol w="3381120"/>
                <a:gridCol w="986040"/>
                <a:gridCol w="917640"/>
                <a:gridCol w="925200"/>
              </a:tblGrid>
              <a:tr h="111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6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7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769,6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639,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626,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362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1752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онирование Правительства РФ, высших исполнительных органов государственной власти субъектов РФ, местных администрац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36,6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36,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36,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362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ервные фон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1149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р.общегосуд-ые вопро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3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,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Раздел 02</a:t>
            </a:r>
            <a:br>
              <a:rPr sz="5000"/>
            </a:b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«Национальная оборона»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1935000"/>
          <a:ext cx="8229600" cy="2364120"/>
        </p:xfrm>
        <a:graphic>
          <a:graphicData uri="http://schemas.openxmlformats.org/drawingml/2006/table">
            <a:tbl>
              <a:tblPr/>
              <a:tblGrid>
                <a:gridCol w="971640"/>
                <a:gridCol w="1285920"/>
                <a:gridCol w="2643120"/>
                <a:gridCol w="1000080"/>
                <a:gridCol w="1143000"/>
                <a:gridCol w="1185840"/>
              </a:tblGrid>
              <a:tr h="7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разд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6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7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 том числ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обилизация и вневойсковая подготов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071720"/>
          </a:xfrm>
          <a:prstGeom prst="rect">
            <a:avLst/>
          </a:prstGeom>
          <a:solidFill>
            <a:srgbClr val="0b5395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dbf5f9"/>
                </a:solidFill>
                <a:latin typeface="Times New Roman"/>
              </a:rPr>
              <a:t>Раздел 03</a:t>
            </a:r>
            <a:br>
              <a:rPr sz="3200"/>
            </a:br>
            <a:r>
              <a:rPr b="1" lang="ru-RU" sz="3200" spc="-1" strike="noStrike">
                <a:solidFill>
                  <a:srgbClr val="dbf5f9"/>
                </a:solidFill>
                <a:latin typeface="Times New Roman"/>
              </a:rPr>
              <a:t> «Национальная безопасность »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00040" y="1714680"/>
          <a:ext cx="8269200" cy="4687560"/>
        </p:xfrm>
        <a:graphic>
          <a:graphicData uri="http://schemas.openxmlformats.org/drawingml/2006/table">
            <a:tbl>
              <a:tblPr/>
              <a:tblGrid>
                <a:gridCol w="792360"/>
                <a:gridCol w="1068120"/>
                <a:gridCol w="3417840"/>
                <a:gridCol w="997200"/>
                <a:gridCol w="1060200"/>
                <a:gridCol w="933480"/>
              </a:tblGrid>
              <a:tr h="555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6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7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794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тивопожарная защита населённых пунктов Междуреченского сельского посе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муниципальная программ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795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роприятия по ликвидации чрезвычайных ситуаций в рамках непрограммных направлений деятельности органов местного самоуправления Междуреченского сельского посе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4617b"/>
                          </a:solidFill>
                          <a:latin typeface="Times New Roman"/>
                        </a:rPr>
                        <a:t>1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4617b"/>
                          </a:solidFill>
                          <a:latin typeface="Times New Roman"/>
                        </a:rPr>
                        <a:t>1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4617b"/>
                          </a:solidFill>
                          <a:latin typeface="Times New Roman"/>
                        </a:rPr>
                        <a:t>1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dbf5f9"/>
                </a:solidFill>
                <a:latin typeface="Times New Roman"/>
              </a:rPr>
              <a:t>Раздел 04</a:t>
            </a:r>
            <a:br>
              <a:rPr sz="3200"/>
            </a:br>
            <a:r>
              <a:rPr b="1" lang="ru-RU" sz="3200" spc="-1" strike="noStrike">
                <a:solidFill>
                  <a:srgbClr val="dbf5f9"/>
                </a:solidFill>
                <a:latin typeface="Times New Roman"/>
              </a:rPr>
              <a:t> «Национальная экономика»</a:t>
            </a:r>
            <a:br>
              <a:rPr sz="3200"/>
            </a:b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39640" y="1989000"/>
          <a:ext cx="8197920" cy="2487600"/>
        </p:xfrm>
        <a:graphic>
          <a:graphicData uri="http://schemas.openxmlformats.org/drawingml/2006/table">
            <a:tbl>
              <a:tblPr/>
              <a:tblGrid>
                <a:gridCol w="785880"/>
                <a:gridCol w="1058760"/>
                <a:gridCol w="3387960"/>
                <a:gridCol w="988920"/>
                <a:gridCol w="1050840"/>
                <a:gridCol w="925560"/>
              </a:tblGrid>
              <a:tr h="79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6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7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06,1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37,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37,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21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рожное хозяй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дорожные фонды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муниципальная программ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06,1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37,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37,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Times New Roman"/>
              </a:rPr>
              <a:t>Раздел 05</a:t>
            </a:r>
            <a:br>
              <a:rPr sz="3200"/>
            </a:br>
            <a:r>
              <a:rPr b="1" lang="ru-RU" sz="3200" spc="-1" strike="noStrike">
                <a:solidFill>
                  <a:srgbClr val="dbf5f9"/>
                </a:solidFill>
                <a:latin typeface="Times New Roman"/>
              </a:rPr>
              <a:t> «Жилищно-коммунальное хозяйство»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0920" y="1285920"/>
          <a:ext cx="8580240" cy="4768920"/>
        </p:xfrm>
        <a:graphic>
          <a:graphicData uri="http://schemas.openxmlformats.org/drawingml/2006/table">
            <a:tbl>
              <a:tblPr/>
              <a:tblGrid>
                <a:gridCol w="834840"/>
                <a:gridCol w="1128960"/>
                <a:gridCol w="3754440"/>
                <a:gridCol w="888840"/>
                <a:gridCol w="1071720"/>
                <a:gridCol w="901440"/>
              </a:tblGrid>
              <a:tr h="79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6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7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53,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58,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5,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21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илищное хозяй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муниципальная программ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непрограммные мероприяти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1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9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95,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9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95,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9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984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ммунальное хозяй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непрограммные мероприяти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6,2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,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2,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984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лагоустрой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муниципальная программ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непрограммные  мероприяти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27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07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7,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87,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57,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37,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Times New Roman"/>
              </a:rPr>
              <a:t>Раздел 07</a:t>
            </a:r>
            <a:br>
              <a:rPr sz="3600"/>
            </a:br>
            <a:r>
              <a:rPr b="1" lang="ru-RU" sz="3600" spc="-1" strike="noStrike">
                <a:solidFill>
                  <a:srgbClr val="dbf5f9"/>
                </a:solidFill>
                <a:latin typeface="Times New Roman"/>
              </a:rPr>
              <a:t> «Образование»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11280" y="1989000"/>
          <a:ext cx="8055000" cy="2644920"/>
        </p:xfrm>
        <a:graphic>
          <a:graphicData uri="http://schemas.openxmlformats.org/drawingml/2006/table">
            <a:tbl>
              <a:tblPr/>
              <a:tblGrid>
                <a:gridCol w="772920"/>
                <a:gridCol w="1171800"/>
                <a:gridCol w="3195360"/>
                <a:gridCol w="970200"/>
                <a:gridCol w="1027080"/>
                <a:gridCol w="917640"/>
              </a:tblGrid>
              <a:tr h="79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6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7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133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лодежная политик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 оздоровление дет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непрограммные мероприяти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98" name="Содержимое 3" descr="Рисунок1.png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571680" y="714240"/>
            <a:ext cx="835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ahoma"/>
              </a:rPr>
              <a:t>Междуреченское Сельско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ahoma"/>
              </a:rPr>
              <a:t>посел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Times New Roman"/>
              </a:rPr>
              <a:t>Раздел 08</a:t>
            </a:r>
            <a:br>
              <a:rPr sz="3600"/>
            </a:br>
            <a:r>
              <a:rPr b="1" lang="ru-RU" sz="3600" spc="-1" strike="noStrike">
                <a:solidFill>
                  <a:srgbClr val="dbf5f9"/>
                </a:solidFill>
                <a:latin typeface="Times New Roman"/>
              </a:rPr>
              <a:t> «Культура, кинематография»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1989000"/>
          <a:ext cx="8342280" cy="2865600"/>
        </p:xfrm>
        <a:graphic>
          <a:graphicData uri="http://schemas.openxmlformats.org/drawingml/2006/table">
            <a:tbl>
              <a:tblPr/>
              <a:tblGrid>
                <a:gridCol w="800280"/>
                <a:gridCol w="1144440"/>
                <a:gridCol w="3379680"/>
                <a:gridCol w="1084320"/>
                <a:gridCol w="992160"/>
                <a:gridCol w="941400"/>
              </a:tblGrid>
              <a:tr h="555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6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7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98,6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91,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91,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522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муниципальная программ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Субсидия  на повышение З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 работникам культуры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Субсидия на книги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98,6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95,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2,0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2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91,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91,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2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91,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91,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2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Times New Roman"/>
              </a:rPr>
              <a:t>Раздел 10</a:t>
            </a:r>
            <a:br>
              <a:rPr sz="3600"/>
            </a:br>
            <a:r>
              <a:rPr b="1" lang="ru-RU" sz="3600" spc="-1" strike="noStrike">
                <a:solidFill>
                  <a:srgbClr val="dbf5f9"/>
                </a:solidFill>
                <a:latin typeface="Times New Roman"/>
              </a:rPr>
              <a:t> «Социальная политика»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600200"/>
          <a:ext cx="8435880" cy="4560840"/>
        </p:xfrm>
        <a:graphic>
          <a:graphicData uri="http://schemas.openxmlformats.org/drawingml/2006/table">
            <a:tbl>
              <a:tblPr/>
              <a:tblGrid>
                <a:gridCol w="730080"/>
                <a:gridCol w="1008360"/>
                <a:gridCol w="3816360"/>
                <a:gridCol w="936360"/>
                <a:gridCol w="909720"/>
                <a:gridCol w="1035000"/>
              </a:tblGrid>
              <a:tr h="79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6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7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3,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78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3,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нсионное обеспе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муниципальная пенси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3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3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3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3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3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3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28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циальное обеспечение насе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захоронение безродных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984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храна семьи и дет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субвенция на приобретение жиль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ля детей сирот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85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Times New Roman"/>
              </a:rPr>
              <a:t>Муниципальная программа</a:t>
            </a:r>
            <a:r>
              <a:rPr b="0" lang="ru-RU" sz="3600" spc="-1" strike="noStrike">
                <a:solidFill>
                  <a:srgbClr val="dbf5f9"/>
                </a:solidFill>
                <a:latin typeface="Times New Roman"/>
              </a:rPr>
              <a:t> – </a:t>
            </a:r>
            <a:br>
              <a:rPr sz="3600"/>
            </a:br>
            <a:r>
              <a:rPr b="0" lang="ru-RU" sz="3600" spc="-1" strike="noStrike">
                <a:solidFill>
                  <a:srgbClr val="dbf5f9"/>
                </a:solidFill>
                <a:latin typeface="Times New Roman"/>
              </a:rPr>
              <a:t>это документ, определяющий:</a:t>
            </a:r>
            <a:br>
              <a:rPr sz="3600"/>
            </a:b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420640"/>
            <a:ext cx="868680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цели и задачи реализуемой политики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 определенной сфер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пособы их достижения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бъемы используемых финансовых ресурс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Times New Roman"/>
              </a:rPr>
              <a:t>Муниципальные программы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57120" y="714240"/>
          <a:ext cx="8291520" cy="5961240"/>
        </p:xfrm>
        <a:graphic>
          <a:graphicData uri="http://schemas.openxmlformats.org/drawingml/2006/table">
            <a:tbl>
              <a:tblPr/>
              <a:tblGrid>
                <a:gridCol w="1090800"/>
                <a:gridCol w="4124160"/>
                <a:gridCol w="988920"/>
                <a:gridCol w="1008360"/>
                <a:gridCol w="1079280"/>
              </a:tblGrid>
              <a:tr h="62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ой програм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31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муниципальной службы в муниципальном образовании Междуреченского сельского поселения Заволжского муниципального район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,8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,8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,8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"Организация культурно-массовых мероприятий  на территории  Междуреченского сельского поселени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065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Профилактика правонарушений, борьба с преступностью и обеспечение безопасности граждан Междуреченского сельского поселени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31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поддержка субъектов малого и среднего предпринимательства в Междуреченском сельском поселении Заволжского муниципального райо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"Противопожарная защита населённых пунктов Междуреченского сельского поселени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333360"/>
          <a:ext cx="8207280" cy="5824440"/>
        </p:xfrm>
        <a:graphic>
          <a:graphicData uri="http://schemas.openxmlformats.org/drawingml/2006/table">
            <a:tbl>
              <a:tblPr/>
              <a:tblGrid>
                <a:gridCol w="1008000"/>
                <a:gridCol w="4199040"/>
                <a:gridCol w="984240"/>
                <a:gridCol w="1008000"/>
                <a:gridCol w="1008000"/>
              </a:tblGrid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ой програм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84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4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"Содержание, обустройство и ремонт дорог, придомовых дворовых территорий многоквартирных жилых домов, подъездов к дворовым территориям многоквартирных жилых домов Междуреченского сельского поселения.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87,5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37,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37,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047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"Содержание  и ремонт муниципального жилого фонда Междуреченского сельского поселения"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1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76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"Благоустройство  Междуреченского сельского поселения "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07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87,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37,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76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"Развитие культуры на территории Междуреченского сельского  поселения"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98,6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91,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91,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76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ТОГО 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44,0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71,9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02,7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Муниципальная программа</a:t>
            </a:r>
            <a:br>
              <a:rPr sz="2400"/>
            </a:br>
            <a:r>
              <a:rPr b="1" lang="ru-RU" sz="24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"Организация культурно-массовых мероприятий  на территории Междуреченского сельского поселения "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28760" y="2786040"/>
          <a:ext cx="8229600" cy="1736640"/>
        </p:xfrm>
        <a:graphic>
          <a:graphicData uri="http://schemas.openxmlformats.org/drawingml/2006/table">
            <a:tbl>
              <a:tblPr/>
              <a:tblGrid>
                <a:gridCol w="4259160"/>
                <a:gridCol w="1295280"/>
                <a:gridCol w="1368360"/>
                <a:gridCol w="130680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22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(Проведение праздников и приобретение сувениров, подарков, призов и т.д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0" lang="ru-RU" sz="25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Муниципальная программа</a:t>
            </a:r>
            <a:br>
              <a:rPr sz="2500"/>
            </a:br>
            <a:r>
              <a:rPr b="1" lang="ru-RU" sz="25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"Пожарная защита населённых пунктов Междуреченского сельского поселения "</a:t>
            </a:r>
            <a:endParaRPr b="0" lang="en-US" sz="25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14240" y="2786040"/>
          <a:ext cx="7972560" cy="1554120"/>
        </p:xfrm>
        <a:graphic>
          <a:graphicData uri="http://schemas.openxmlformats.org/drawingml/2006/table">
            <a:tbl>
              <a:tblPr/>
              <a:tblGrid>
                <a:gridCol w="3500640"/>
                <a:gridCol w="1428840"/>
                <a:gridCol w="1428480"/>
                <a:gridCol w="1614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асходы на реализацию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На мероприятия по реализации программы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5520" cy="2525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25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Муниципальная программа</a:t>
            </a:r>
            <a:br>
              <a:rPr sz="2500"/>
            </a:br>
            <a:r>
              <a:rPr b="1" lang="ru-RU" sz="25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"Содержание, обустройство и ремонт дорог, придомовых дворовых территорий многоквартирных жилых домов, подъездов </a:t>
            </a:r>
            <a:br>
              <a:rPr sz="2500"/>
            </a:br>
            <a:r>
              <a:rPr b="1" lang="ru-RU" sz="25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к дворовым территориям многоквартирных жилых домов  Междуреченского сельского поселения"</a:t>
            </a:r>
            <a:endParaRPr b="0" lang="en-US" sz="25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14240" y="3071880"/>
          <a:ext cx="7972560" cy="1828800"/>
        </p:xfrm>
        <a:graphic>
          <a:graphicData uri="http://schemas.openxmlformats.org/drawingml/2006/table">
            <a:tbl>
              <a:tblPr/>
              <a:tblGrid>
                <a:gridCol w="3000600"/>
                <a:gridCol w="1500120"/>
                <a:gridCol w="1714320"/>
                <a:gridCol w="17575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ру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6,1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7,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7,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142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Муниципальная программа</a:t>
            </a:r>
            <a:br>
              <a:rPr sz="2800"/>
            </a:br>
            <a:r>
              <a:rPr b="1" lang="ru-RU" sz="27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«Содержание  и ремонт муниципального  жилого фонда  Междуреченского сельского поселения»</a:t>
            </a:r>
            <a:endParaRPr b="0" lang="en-US" sz="27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57120" y="2857680"/>
          <a:ext cx="8229600" cy="1828800"/>
        </p:xfrm>
        <a:graphic>
          <a:graphicData uri="http://schemas.openxmlformats.org/drawingml/2006/table">
            <a:tbl>
              <a:tblPr/>
              <a:tblGrid>
                <a:gridCol w="3929040"/>
                <a:gridCol w="1428840"/>
                <a:gridCol w="150012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1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6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6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Муниципальная программа</a:t>
            </a:r>
            <a:br>
              <a:rPr sz="2500"/>
            </a:br>
            <a:r>
              <a:rPr b="1" lang="ru-RU" sz="25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"Благоустройство </a:t>
            </a:r>
            <a:br>
              <a:rPr sz="2500"/>
            </a:br>
            <a:r>
              <a:rPr b="1" lang="ru-RU" sz="25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Междуреченского сельского поселения"</a:t>
            </a:r>
            <a:br>
              <a:rPr sz="2500"/>
            </a:br>
            <a:endParaRPr b="0" lang="en-US" sz="25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85840" y="2571840"/>
          <a:ext cx="8572320" cy="2103480"/>
        </p:xfrm>
        <a:graphic>
          <a:graphicData uri="http://schemas.openxmlformats.org/drawingml/2006/table">
            <a:tbl>
              <a:tblPr/>
              <a:tblGrid>
                <a:gridCol w="3643200"/>
                <a:gridCol w="1714680"/>
                <a:gridCol w="1643040"/>
                <a:gridCol w="1571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7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7,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7,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юджет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- это план доходов и расходов на определенный период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юджет для граждан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 это проект закона о бюджете в доступной и понятной форм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юджетный процесс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 это ежегодное формирование и исполнение бюдже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Муниципальная программа</a:t>
            </a:r>
            <a:br>
              <a:rPr sz="2800"/>
            </a:br>
            <a:r>
              <a:rPr b="1" lang="ru-RU" sz="28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"Развитие культуры на территории Междуреченского сельского  поселения "</a:t>
            </a: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39640" y="2190600"/>
          <a:ext cx="8105760" cy="1919520"/>
        </p:xfrm>
        <a:graphic>
          <a:graphicData uri="http://schemas.openxmlformats.org/drawingml/2006/table">
            <a:tbl>
              <a:tblPr/>
              <a:tblGrid>
                <a:gridCol w="3408480"/>
                <a:gridCol w="1492200"/>
                <a:gridCol w="1631880"/>
                <a:gridCol w="1573200"/>
              </a:tblGrid>
              <a:tr h="7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798,6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691,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691,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Муниципальная программа</a:t>
            </a:r>
            <a:br>
              <a:rPr sz="2800"/>
            </a:br>
            <a:r>
              <a:rPr b="1" lang="ru-RU" sz="18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"«Профилактика правонарушений, борьба с преступностью и обеспечение безопасности граждан Междуреченского сельского поселения Заволжского муниципального района»."</a:t>
            </a:r>
            <a:endParaRPr b="0" lang="en-US" sz="18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9640" y="2190600"/>
          <a:ext cx="8105760" cy="1919520"/>
        </p:xfrm>
        <a:graphic>
          <a:graphicData uri="http://schemas.openxmlformats.org/drawingml/2006/table">
            <a:tbl>
              <a:tblPr/>
              <a:tblGrid>
                <a:gridCol w="3408480"/>
                <a:gridCol w="1492200"/>
                <a:gridCol w="1631880"/>
                <a:gridCol w="1573200"/>
              </a:tblGrid>
              <a:tr h="7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,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,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Муниципальная программа</a:t>
            </a:r>
            <a:br>
              <a:rPr sz="2800"/>
            </a:br>
            <a:r>
              <a:rPr b="1" lang="ru-RU" sz="18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«Развитие и поддержка субъектов малого и среднего предпринимательства в Междуреченском сельском поселении Заволжского муниципального района»."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9640" y="2190600"/>
          <a:ext cx="8105760" cy="1919520"/>
        </p:xfrm>
        <a:graphic>
          <a:graphicData uri="http://schemas.openxmlformats.org/drawingml/2006/table">
            <a:tbl>
              <a:tblPr/>
              <a:tblGrid>
                <a:gridCol w="3408480"/>
                <a:gridCol w="1492200"/>
                <a:gridCol w="1631880"/>
                <a:gridCol w="1573200"/>
              </a:tblGrid>
              <a:tr h="7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Муниципальная программа</a:t>
            </a:r>
            <a:br>
              <a:rPr sz="2800"/>
            </a:br>
            <a:r>
              <a:rPr b="1" lang="ru-RU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«Развитие муниципальной службы в муниципальном образовании Междуреченского сельского поселения Заволжского муниципального района»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39640" y="2190600"/>
          <a:ext cx="8105760" cy="1919520"/>
        </p:xfrm>
        <a:graphic>
          <a:graphicData uri="http://schemas.openxmlformats.org/drawingml/2006/table">
            <a:tbl>
              <a:tblPr/>
              <a:tblGrid>
                <a:gridCol w="3408480"/>
                <a:gridCol w="1492200"/>
                <a:gridCol w="1631880"/>
                <a:gridCol w="1573200"/>
              </a:tblGrid>
              <a:tr h="7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60,8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60,8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60,8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960120" y="1936800"/>
            <a:ext cx="7137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ОСНОВНЫЕ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ХАРАКТЕРИСТИК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БЮДЖЕТ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468360" y="119700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оходы бюджета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это безвозмездн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безвозвратные поступления денежных средств в бюдж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асходы бюджета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это выплачиваем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 бюджета денежные сре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Times New Roman"/>
              </a:rPr>
              <a:t>Доходы - Расходы = Дефицит (Профицит)</a:t>
            </a:r>
            <a:br>
              <a:rPr sz="3200"/>
            </a:b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1483920"/>
            <a:ext cx="428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фици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– 6 = -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расходы больше доходов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превышении расходов над доходами принимается решение об источниках покрытия дефицита (например, использовать имеющиеся накопления, остатки, взять в долг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7960" y="1599840"/>
            <a:ext cx="4244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фици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– 4 = 1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доходы больше расходов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превышении доходов над расходами принимается решение, как их использовать (например, накапливать резервы, остатки, погашать долг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Organization Chart 16"/>
          <p:cNvGrpSpPr/>
          <p:nvPr/>
        </p:nvGrpSpPr>
        <p:grpSpPr>
          <a:xfrm>
            <a:off x="395280" y="692280"/>
            <a:ext cx="8280000" cy="4854600"/>
            <a:chOff x="395280" y="692280"/>
            <a:chExt cx="8280000" cy="4854600"/>
          </a:xfrm>
        </p:grpSpPr>
        <p:cxnSp>
          <p:nvCxnSpPr>
            <p:cNvPr id="107" name="_s1028"/>
            <p:cNvCxnSpPr>
              <a:stCxn id="108" idx="0"/>
              <a:endCxn id="109" idx="2"/>
            </p:cNvCxnSpPr>
            <p:nvPr/>
          </p:nvCxnSpPr>
          <p:spPr>
            <a:xfrm flipV="1" rot="16200000">
              <a:off x="5498280" y="1669680"/>
              <a:ext cx="971640" cy="2898720"/>
            </a:xfrm>
            <a:prstGeom prst="bentConnector3">
              <a:avLst>
                <a:gd name="adj1" fmla="val 127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0" name="_s1029"/>
            <p:cNvCxnSpPr>
              <a:stCxn id="111" idx="0"/>
              <a:endCxn id="109" idx="2"/>
            </p:cNvCxnSpPr>
            <p:nvPr/>
          </p:nvCxnSpPr>
          <p:spPr>
            <a:xfrm flipV="1">
              <a:off x="4534920" y="2633400"/>
              <a:ext cx="3960" cy="9716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1030"/>
            <p:cNvCxnSpPr>
              <a:stCxn id="113" idx="0"/>
              <a:endCxn id="109" idx="2"/>
            </p:cNvCxnSpPr>
            <p:nvPr/>
          </p:nvCxnSpPr>
          <p:spPr>
            <a:xfrm flipH="1" flipV="1" rot="5400000">
              <a:off x="2600640" y="1670040"/>
              <a:ext cx="971640" cy="2898720"/>
            </a:xfrm>
            <a:prstGeom prst="bentConnector3">
              <a:avLst>
                <a:gd name="adj1" fmla="val 127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9" name="_s1031"/>
            <p:cNvSpPr/>
            <p:nvPr/>
          </p:nvSpPr>
          <p:spPr>
            <a:xfrm>
              <a:off x="3293280" y="692280"/>
              <a:ext cx="2484000" cy="19418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800000"/>
                  </a:solidFill>
                  <a:latin typeface="Times New Roman"/>
                </a:rPr>
                <a:t>Доходы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800000"/>
                  </a:solidFill>
                  <a:latin typeface="Times New Roman"/>
                </a:rPr>
                <a:t>бюджета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_s1032"/>
            <p:cNvSpPr/>
            <p:nvPr/>
          </p:nvSpPr>
          <p:spPr>
            <a:xfrm>
              <a:off x="395280" y="3605040"/>
              <a:ext cx="2484000" cy="19418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Налоговы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доход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_s1033"/>
            <p:cNvSpPr/>
            <p:nvPr/>
          </p:nvSpPr>
          <p:spPr>
            <a:xfrm>
              <a:off x="3293280" y="3605040"/>
              <a:ext cx="2484000" cy="19418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Неналоговы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доход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_s1034"/>
            <p:cNvSpPr/>
            <p:nvPr/>
          </p:nvSpPr>
          <p:spPr>
            <a:xfrm>
              <a:off x="6191280" y="3605040"/>
              <a:ext cx="2484000" cy="19418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Безвозмездны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поступления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800244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Times New Roman"/>
              </a:rPr>
              <a:t>Налоговые доходы</a:t>
            </a: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 - </a:t>
            </a:r>
            <a:r>
              <a:rPr b="0" lang="ru-RU" sz="2900" spc="-1" strike="noStrike">
                <a:solidFill>
                  <a:srgbClr val="dbf5f9"/>
                </a:solidFill>
                <a:latin typeface="Times New Roman"/>
              </a:rPr>
              <a:t>это поступления от уплаты налогов, установленных налоговым кодексом РФ</a:t>
            </a:r>
            <a:endParaRPr b="0" lang="en-US" sz="29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Налог на доходы физических лиц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Акциз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Налог на имущество физических лиц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Налог на землю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Единый сельскохозяйственный налог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9T13:21:52Z</dcterms:created>
  <dc:creator/>
  <dc:description/>
  <dc:language>en-US</dc:language>
  <cp:lastModifiedBy>Admin</cp:lastModifiedBy>
  <cp:lastPrinted>2013-11-26T12:28:35Z</cp:lastPrinted>
  <dcterms:modified xsi:type="dcterms:W3CDTF">2015-12-17T11:19:55Z</dcterms:modified>
  <cp:revision>293</cp:revision>
  <dc:subject/>
  <dc:title>БЮДЖЕТ  для  граждан </dc:title>
</cp:coreProperties>
</file>