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39C-94CC-4DE8-BA78-43169975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848-3946-43EF-AAA0-1AD7EF93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403-AEF6-42DC-8BFD-5A15AE04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88B-7C1B-4370-8065-91FCCD63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229A-C7F9-420C-98B8-1DBBB99C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AC52-37AC-4138-BA3E-9424B6ED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4917-C13E-4F53-A49B-18C57E21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0515-5E58-4990-BC29-7B9D7356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2770-7BEF-487D-98D9-D365FCE9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F8ED-2B97-4B39-876C-2612FD15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EA10-B6B7-446A-95F8-7C118222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C6E-5B1D-4F58-A37C-D40FFD04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83CC-259F-42A5-8F53-BBDCB877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5A03-6950-4217-BF6A-6CDC09B1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3F3C-8118-428D-9A82-3093E7D1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EE33-D294-4323-86B5-10B42690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B03C-FCFF-4D00-A87C-6AD15A14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35550-BDF4-48E3-9DB2-A1BFB2F6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C865F-1F4F-4F43-88BE-4FE6AAE1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97E91-2B12-470B-A931-A3EAA1CD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FF531-FEF8-4D21-B2A0-2AA43884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27F50-85B2-48D2-8E7E-7F864F53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743-6F1B-4DDA-8D95-3D06C7B2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2180A-84DC-42F3-AE79-FBCCAFA0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0A73B-7313-4C31-98AE-6A02CC36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3F5AB-DFCD-4B11-8CFE-29A0803A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2AB2-F067-45DD-87E9-71EF0959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ECBF8-623E-4B1D-9728-37215B61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6919C-1F16-4D07-A29F-91D43922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F46B-C246-4CE3-8EB1-E5DB444A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F8193-29FD-46C2-ADD5-5F448D84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5E78E-1BE8-4C34-B836-A31555A7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301AB-1BDC-4799-91ED-2E23AAD3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31B-BBD6-451C-9613-A6A72C85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E2529-AF68-45F3-80AD-EE0AFAC4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A2ADB-A837-48F6-AEC8-4EE1C7C4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56D06-985C-414A-A3DC-2F307285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EDEEB-9B21-4B62-8D33-C7638B58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259A4-33C6-4A1B-886E-979D1AE1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3E218-C6F6-4B69-84E4-856ED47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102EB-5829-4174-AC36-6CFDCD68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66708-8E47-4124-8C38-11E5C5E2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C76FE-F323-4E09-8369-071B3FA4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2EC85-16A8-46A3-804C-933DE35A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2B5-CECD-4AE7-A686-463AB8EB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9A726-7EF0-41F7-9B04-39AF820B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6F5BB-7646-4E96-9125-62201A3A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4DC23-9D89-49C9-B2FF-0E433B87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C80A3-D990-49F9-9CC3-807B92DB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AC169-1AE2-497F-8250-78137A0E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994E6-181A-41C5-B216-6F2B5296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F66FB-535C-447A-A0C6-F0DC1D77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850FE-85D1-4DE3-A1BD-FF40612F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5CD97-4A6C-4578-8AC3-0FBAA271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5742E-A7D2-4CD8-A053-E63AAE8B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6A6-4F24-4FA9-9AA6-EE15E5C2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C25E6-7276-451A-B7BC-CE30AFE1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4B71E-6C0E-45FF-A7BB-3CA954D6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B9404-9CAC-45D7-90B8-5B9BED1C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B74CC-291C-4016-99BE-0819BE79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AE746-DEC8-4D30-8AF3-80106F56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9FAB5-267C-4EE7-8333-C903ADC4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DD820-C4C9-4B3B-AF01-5436E30E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FC7E9-FE56-4901-9D20-F3631370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B5A8C-6781-4273-9B01-C16FD69F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AD86B-7421-4713-9022-26CAB690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148-1F1E-4BC7-82B2-7C265BD1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3B196-CB19-479D-88E6-58F5C7C0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8DDC9-5E6C-4264-9B1B-E1CC5856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A1A1A-EF52-4269-9361-9AE50F39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A0788-176C-44E8-9C29-884E1A73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F0B32-DEEB-4011-8DF3-FFB018C1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D22EA-9100-43F4-A447-CE091562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761F9-30FB-4D89-8A91-4CB68D0E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A29DF-5603-41BE-B5D1-87D9A5F1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968FD-2111-47F8-8BFB-E25E98FB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AFA83-0E0D-408E-88A1-3192DD83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294-5F5D-42B8-A6AF-9EF32372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D7EE4-4F23-4577-B403-2B893FF6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6B26E-E45F-4CDF-B95E-9B67B828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D33E7-35D9-4CDE-9CD3-98FCCB42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01E94-D59B-4982-B064-8D3A7A31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7FD09-CC14-4D56-8242-DA2F1CC3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092-EF4A-45B9-BBF9-2C0880F5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DE23-252D-4CF4-B313-90A62E6576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5DCE-36AD-4948-9D42-6B00E805A212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695D-E33D-4111-9F71-ACE0479C3C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B33B-1C52-4217-A9F9-851B9BA68C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3B23-CB19-485A-8910-2ABFA4CAA2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3E7F-C6C0-417B-8AF5-A3E40813ECAA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3FC6-86F1-47A1-9033-7A468D7D628B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468360" y="189000"/>
            <a:ext cx="8424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ажаемые жители Междуреченского сельского поселени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вами бюджет, в котором в краткой и доступной форме отражены основные параметры бюджета Междуреченского сельского поселения на 2018 год и плановый период 2019 и 2020 г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ые изложены так, чтобы каждый мог понять, на какие цели и в каком объеме направляются бюджетные сред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18 году бюджет чуть больше чем на половину «программный бюджет». 53% расходов бюджета распределено в рамках 9 муниципальных програм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еемся, что представление бюджета сельского поселения в понятной и доступной форме повысит уровень общественного участия граждан в бюджетном процессе Междуреченского сельского по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Междуреченского сельского по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6225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Доходы от оказания платных услуг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рочие неналоговые доход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407440" cy="1450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тации (предоставляются без определения конкретной цели их использования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бвенции (предоставляются на финансирование переданных полномочий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бсидии (предоставляются на условиях долевого софинансирования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Organization Chart 4"/>
          <p:cNvGrpSpPr/>
          <p:nvPr/>
        </p:nvGrpSpPr>
        <p:grpSpPr>
          <a:xfrm>
            <a:off x="468360" y="476280"/>
            <a:ext cx="8228880" cy="5681520"/>
            <a:chOff x="468360" y="476280"/>
            <a:chExt cx="8228880" cy="5681520"/>
          </a:xfrm>
        </p:grpSpPr>
        <p:cxnSp>
          <p:nvCxnSpPr>
            <p:cNvPr id="327" name="_s1028"/>
            <p:cNvCxnSpPr>
              <a:stCxn id="328" idx="0"/>
              <a:endCxn id="329" idx="2"/>
            </p:cNvCxnSpPr>
            <p:nvPr/>
          </p:nvCxnSpPr>
          <p:spPr>
            <a:xfrm flipV="1" rot="16200000">
              <a:off x="5614560" y="1716120"/>
              <a:ext cx="1136880" cy="320112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0" name="_s1029"/>
            <p:cNvCxnSpPr>
              <a:stCxn id="331" idx="0"/>
              <a:endCxn id="329" idx="2"/>
            </p:cNvCxnSpPr>
            <p:nvPr/>
          </p:nvCxnSpPr>
          <p:spPr>
            <a:xfrm flipV="1" rot="16200000">
              <a:off x="4547520" y="2783160"/>
              <a:ext cx="1136880" cy="106740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2" name="_s1030"/>
            <p:cNvCxnSpPr>
              <a:stCxn id="333" idx="0"/>
              <a:endCxn id="329" idx="2"/>
            </p:cNvCxnSpPr>
            <p:nvPr/>
          </p:nvCxnSpPr>
          <p:spPr>
            <a:xfrm flipH="1" flipV="1" rot="5400000">
              <a:off x="3480840" y="2783520"/>
              <a:ext cx="1136880" cy="106704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4" name="_s1031"/>
            <p:cNvCxnSpPr>
              <a:stCxn id="335" idx="0"/>
              <a:endCxn id="329" idx="2"/>
            </p:cNvCxnSpPr>
            <p:nvPr/>
          </p:nvCxnSpPr>
          <p:spPr>
            <a:xfrm flipH="1" flipV="1" rot="5400000">
              <a:off x="2413800" y="1716480"/>
              <a:ext cx="1136880" cy="320076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29" name="_s1032"/>
            <p:cNvSpPr/>
            <p:nvPr/>
          </p:nvSpPr>
          <p:spPr>
            <a:xfrm>
              <a:off x="3668400" y="47628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Times New Roman"/>
                </a:rPr>
                <a:t>Составление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Times New Roman"/>
                </a:rPr>
                <a:t>проекта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Times New Roman"/>
                </a:rPr>
                <a:t>бюджет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800000"/>
                  </a:solidFill>
                  <a:latin typeface="Times New Roman"/>
                </a:rPr>
                <a:t>основан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Times New Roman"/>
                </a:rPr>
                <a:t>   </a:t>
              </a:r>
              <a:r>
                <a:rPr b="1" lang="ru-RU" sz="2000" spc="-1" strike="noStrike">
                  <a:solidFill>
                    <a:srgbClr val="800000"/>
                  </a:solidFill>
                  <a:latin typeface="Times New Roman"/>
                </a:rPr>
                <a:t>НА 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_s1033"/>
            <p:cNvSpPr/>
            <p:nvPr/>
          </p:nvSpPr>
          <p:spPr>
            <a:xfrm>
              <a:off x="46836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бюджетном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Послани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Президента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РФ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_s1034"/>
            <p:cNvSpPr/>
            <p:nvPr/>
          </p:nvSpPr>
          <p:spPr>
            <a:xfrm>
              <a:off x="260172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прогноз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социально-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экономического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развит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_s1035"/>
            <p:cNvSpPr/>
            <p:nvPr/>
          </p:nvSpPr>
          <p:spPr>
            <a:xfrm>
              <a:off x="473544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основных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направлениях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  </a:t>
              </a: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бюджетной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налогово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таможенно-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тарифно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политик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_s1036"/>
            <p:cNvSpPr/>
            <p:nvPr/>
          </p:nvSpPr>
          <p:spPr>
            <a:xfrm>
              <a:off x="686880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муниципальных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программах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822240" y="512640"/>
            <a:ext cx="8040600" cy="18338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еличение собираемости платежей в бюдже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тимизация и повышение эффективности бюджетных расходо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ффективное управление муниципальной собственность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аботка и принятие муниципальных програм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имизация бюджетного дефицит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64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395280" y="1989000"/>
          <a:ext cx="8353440" cy="3713400"/>
        </p:xfrm>
        <a:graphic>
          <a:graphicData uri="http://schemas.openxmlformats.org/drawingml/2006/table">
            <a:tbl>
              <a:tblPr/>
              <a:tblGrid>
                <a:gridCol w="725400"/>
                <a:gridCol w="3832200"/>
                <a:gridCol w="1265400"/>
                <a:gridCol w="1265040"/>
                <a:gridCol w="1265400"/>
              </a:tblGrid>
              <a:tr h="62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951,37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86,15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325,4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86,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58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65,1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27,65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00,9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951,3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86,15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325,4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ФИЦИТ (-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633240" y="-122400"/>
            <a:ext cx="8132760" cy="12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571680" y="1214280"/>
          <a:ext cx="8218440" cy="3749760"/>
        </p:xfrm>
        <a:graphic>
          <a:graphicData uri="http://schemas.openxmlformats.org/drawingml/2006/table">
            <a:tbl>
              <a:tblPr/>
              <a:tblGrid>
                <a:gridCol w="4319280"/>
                <a:gridCol w="927360"/>
                <a:gridCol w="1073160"/>
                <a:gridCol w="944280"/>
                <a:gridCol w="954360"/>
              </a:tblGrid>
              <a:tr h="100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Норматив зачисления в местный бюдж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.Налогов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29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311,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37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ДФ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41,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46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57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алог на имущество  физических 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алог на зем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81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86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9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8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5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.Неналогов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ходы от предоставления платных услу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993600" y="469800"/>
            <a:ext cx="8156880" cy="15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539640" y="492120"/>
          <a:ext cx="8280360" cy="4979880"/>
        </p:xfrm>
        <a:graphic>
          <a:graphicData uri="http://schemas.openxmlformats.org/drawingml/2006/table">
            <a:tbl>
              <a:tblPr/>
              <a:tblGrid>
                <a:gridCol w="4746600"/>
                <a:gridCol w="1214640"/>
                <a:gridCol w="1143000"/>
                <a:gridCol w="1176120"/>
              </a:tblGrid>
              <a:tr h="592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.Безвозмездные поступ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8665,1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7627,6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8900,9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т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811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674,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680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Межбюджетные трансфер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278,0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892,2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892,4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Субсид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14,9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Субвен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0,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1,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3,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Субвенции бюджетам на осуществление первичного воинского учета на территориях, где отсутствуют военные комиссари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0,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1,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3,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4617b"/>
                          </a:solidFill>
                          <a:latin typeface="Times New Roman"/>
                          <a:ea typeface="Times New Roman"/>
                        </a:rPr>
                        <a:t>Субвенция на  предоставление  жилых помещений детям-сиротам и детям, оставшимся без попечения родите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264,5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СЕГО  ДОХОДОВ 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951,3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9986,1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1325,4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45" name="Таблица 3" descr=""/>
          <p:cNvPicPr/>
          <p:nvPr/>
        </p:nvPicPr>
        <p:blipFill>
          <a:blip r:embed="rId2"/>
          <a:stretch/>
        </p:blipFill>
        <p:spPr>
          <a:xfrm>
            <a:off x="647640" y="1598760"/>
            <a:ext cx="81136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7" name="Объект 4" descr=""/>
          <p:cNvPicPr/>
          <p:nvPr/>
        </p:nvPicPr>
        <p:blipFill>
          <a:blip r:embed="rId2"/>
          <a:stretch/>
        </p:blipFill>
        <p:spPr>
          <a:xfrm>
            <a:off x="717480" y="1967040"/>
            <a:ext cx="80438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9" name="Объект 3" descr=""/>
          <p:cNvPicPr/>
          <p:nvPr/>
        </p:nvPicPr>
        <p:blipFill>
          <a:blip r:embed="rId2"/>
          <a:stretch/>
        </p:blipFill>
        <p:spPr>
          <a:xfrm>
            <a:off x="914400" y="1968480"/>
            <a:ext cx="74772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642960" y="357120"/>
            <a:ext cx="77724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БЮДЖЕТ</a:t>
            </a:r>
            <a:br>
              <a:rPr sz="4800"/>
            </a:br>
            <a:r>
              <a:rPr b="1" lang="ru-RU" sz="48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для</a:t>
            </a:r>
            <a:r>
              <a:rPr b="1" lang="ru-RU" sz="88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граждан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dbf5f9"/>
                </a:solidFill>
                <a:latin typeface="Times New Roman"/>
              </a:rPr>
              <a:t>Бюджет Междуреченского сельского поселения на 2018 год и плановый период 2019 и 2020 год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7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450720" y="-109440"/>
            <a:ext cx="8242560" cy="66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"/>
          <p:cNvGraphicFramePr/>
          <p:nvPr/>
        </p:nvGraphicFramePr>
        <p:xfrm>
          <a:off x="539640" y="765000"/>
          <a:ext cx="8050320" cy="5232600"/>
        </p:xfrm>
        <a:graphic>
          <a:graphicData uri="http://schemas.openxmlformats.org/drawingml/2006/table">
            <a:tbl>
              <a:tblPr/>
              <a:tblGrid>
                <a:gridCol w="1136880"/>
                <a:gridCol w="3047760"/>
                <a:gridCol w="1447920"/>
                <a:gridCol w="1203480"/>
                <a:gridCol w="1214280"/>
              </a:tblGrid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,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951,3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86,1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325,4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государственные рас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61,7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56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57,0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,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1,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,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. безопасность и правоохран.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7,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7,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7,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К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59,0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59,0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59,0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35,4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74,4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46,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6,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6,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10,7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53" name="Объект 5" descr=""/>
          <p:cNvPicPr/>
          <p:nvPr/>
        </p:nvPicPr>
        <p:blipFill>
          <a:blip r:embed="rId2"/>
          <a:stretch/>
        </p:blipFill>
        <p:spPr>
          <a:xfrm>
            <a:off x="928800" y="2071800"/>
            <a:ext cx="718812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353880" y="23760"/>
            <a:ext cx="8240760" cy="1347840"/>
          </a:xfrm>
          <a:prstGeom prst="rect">
            <a:avLst/>
          </a:prstGeom>
          <a:ln w="0">
            <a:noFill/>
          </a:ln>
        </p:spPr>
      </p:pic>
      <p:pic>
        <p:nvPicPr>
          <p:cNvPr id="355" name="Объект 3" descr=""/>
          <p:cNvPicPr/>
          <p:nvPr/>
        </p:nvPicPr>
        <p:blipFill>
          <a:blip r:embed="rId2"/>
          <a:stretch/>
        </p:blipFill>
        <p:spPr>
          <a:xfrm>
            <a:off x="185760" y="1500120"/>
            <a:ext cx="8958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57" name="Объект 3" descr=""/>
          <p:cNvPicPr/>
          <p:nvPr/>
        </p:nvPicPr>
        <p:blipFill>
          <a:blip r:embed="rId2"/>
          <a:stretch/>
        </p:blipFill>
        <p:spPr>
          <a:xfrm>
            <a:off x="871560" y="1969920"/>
            <a:ext cx="740088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676440" y="-96840"/>
            <a:ext cx="82422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642960" y="1357200"/>
          <a:ext cx="8053200" cy="4929480"/>
        </p:xfrm>
        <a:graphic>
          <a:graphicData uri="http://schemas.openxmlformats.org/drawingml/2006/table">
            <a:tbl>
              <a:tblPr/>
              <a:tblGrid>
                <a:gridCol w="784080"/>
                <a:gridCol w="858960"/>
                <a:gridCol w="3214800"/>
                <a:gridCol w="1071360"/>
                <a:gridCol w="1071720"/>
                <a:gridCol w="105228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61,7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556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57,0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онирование  высшего должностного лица субъекта Российской Федерации и муниципального обра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5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5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5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30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онирование Правительства РФ, высших исполнительных органов государственной власти субъектов РФ, местных администр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84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84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84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дебная систе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2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49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.общегосуд-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457200" y="1882800"/>
          <a:ext cx="8229600" cy="2363760"/>
        </p:xfrm>
        <a:graphic>
          <a:graphicData uri="http://schemas.openxmlformats.org/drawingml/2006/table">
            <a:tbl>
              <a:tblPr/>
              <a:tblGrid>
                <a:gridCol w="971640"/>
                <a:gridCol w="1285920"/>
                <a:gridCol w="2643120"/>
                <a:gridCol w="1000080"/>
                <a:gridCol w="1143000"/>
                <a:gridCol w="1185840"/>
              </a:tblGrid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обилизация и вневойсков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8242560" cy="12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"/>
          <p:cNvGraphicFramePr/>
          <p:nvPr/>
        </p:nvGraphicFramePr>
        <p:xfrm>
          <a:off x="500040" y="1714680"/>
          <a:ext cx="8269200" cy="2724120"/>
        </p:xfrm>
        <a:graphic>
          <a:graphicData uri="http://schemas.openxmlformats.org/drawingml/2006/table">
            <a:tbl>
              <a:tblPr/>
              <a:tblGrid>
                <a:gridCol w="792360"/>
                <a:gridCol w="1068120"/>
                <a:gridCol w="3417840"/>
                <a:gridCol w="997200"/>
                <a:gridCol w="1060200"/>
                <a:gridCol w="933480"/>
              </a:tblGrid>
              <a:tr h="55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374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тивопожарная защита населённых пунктов Междуреченского сельского посе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8242560" cy="12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500040" y="1714680"/>
          <a:ext cx="8269200" cy="3633480"/>
        </p:xfrm>
        <a:graphic>
          <a:graphicData uri="http://schemas.openxmlformats.org/drawingml/2006/table">
            <a:tbl>
              <a:tblPr/>
              <a:tblGrid>
                <a:gridCol w="792360"/>
                <a:gridCol w="1068120"/>
                <a:gridCol w="3417840"/>
                <a:gridCol w="997200"/>
                <a:gridCol w="1060200"/>
                <a:gridCol w="933480"/>
              </a:tblGrid>
              <a:tr h="55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87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87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87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Комплексное развитие транспортной инфраструктуры на территории Междуреченского сельского поселения Заволжского муниципального района на 2017-2026 годы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87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87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87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9080"/>
            <a:ext cx="82425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"/>
          <p:cNvGraphicFramePr/>
          <p:nvPr/>
        </p:nvGraphicFramePr>
        <p:xfrm>
          <a:off x="250920" y="1285920"/>
          <a:ext cx="8580240" cy="5024520"/>
        </p:xfrm>
        <a:graphic>
          <a:graphicData uri="http://schemas.openxmlformats.org/drawingml/2006/table">
            <a:tbl>
              <a:tblPr/>
              <a:tblGrid>
                <a:gridCol w="834840"/>
                <a:gridCol w="1128960"/>
                <a:gridCol w="3754440"/>
                <a:gridCol w="888840"/>
                <a:gridCol w="1071720"/>
                <a:gridCol w="901440"/>
              </a:tblGrid>
              <a:tr h="79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59,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59,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59,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47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лагоустрой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 уличное освещени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 энергосбережен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бюджетные трансферты на организацию ритуальных услуг и содержание мест захоро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97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ие мероприятия в области Жилищно-коммунального хозяйства(управление М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79,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79,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79,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143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395280" y="1989000"/>
          <a:ext cx="8319960" cy="2049480"/>
        </p:xfrm>
        <a:graphic>
          <a:graphicData uri="http://schemas.openxmlformats.org/drawingml/2006/table">
            <a:tbl>
              <a:tblPr/>
              <a:tblGrid>
                <a:gridCol w="800280"/>
                <a:gridCol w="1144440"/>
                <a:gridCol w="3160800"/>
                <a:gridCol w="1143000"/>
                <a:gridCol w="1071360"/>
                <a:gridCol w="1000080"/>
              </a:tblGrid>
              <a:tr h="55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35,4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74,4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46,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35,4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74,4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46,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5c8fe9"/>
              </a:solidFill>
              <a:latin typeface="Century Gothic"/>
            </a:endParaRPr>
          </a:p>
        </p:txBody>
      </p:sp>
      <p:pic>
        <p:nvPicPr>
          <p:cNvPr id="304" name="Содержимое 3" descr="Рисунок1.pn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571680" y="71424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ahoma"/>
              </a:rPr>
              <a:t>Междуреченское Сельско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ahoma"/>
              </a:rPr>
              <a:t>посе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0720" y="407880"/>
            <a:ext cx="824256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"/>
          <p:cNvGraphicFramePr/>
          <p:nvPr/>
        </p:nvGraphicFramePr>
        <p:xfrm>
          <a:off x="457200" y="1600200"/>
          <a:ext cx="8435880" cy="3664080"/>
        </p:xfrm>
        <a:graphic>
          <a:graphicData uri="http://schemas.openxmlformats.org/drawingml/2006/table">
            <a:tbl>
              <a:tblPr/>
              <a:tblGrid>
                <a:gridCol w="730080"/>
                <a:gridCol w="1008360"/>
                <a:gridCol w="3816360"/>
                <a:gridCol w="936360"/>
                <a:gridCol w="909720"/>
                <a:gridCol w="1035000"/>
              </a:tblGrid>
              <a:tr h="55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6,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6,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10,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енс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бюджетные трансферты на организацию ритуальных услуг и содержание мест захоро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69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64,5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463680" y="762120"/>
            <a:ext cx="8242200" cy="1584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2420640"/>
            <a:ext cx="86868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цели и задачи реализуемой политики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 определенной сфер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пособы их достижения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ъемы используемых финансовых ресурсов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420840" y="-152280"/>
            <a:ext cx="8242200" cy="165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5" name=""/>
          <p:cNvGraphicFramePr/>
          <p:nvPr/>
        </p:nvGraphicFramePr>
        <p:xfrm>
          <a:off x="357120" y="714240"/>
          <a:ext cx="8291520" cy="5961240"/>
        </p:xfrm>
        <a:graphic>
          <a:graphicData uri="http://schemas.openxmlformats.org/drawingml/2006/table">
            <a:tbl>
              <a:tblPr/>
              <a:tblGrid>
                <a:gridCol w="1090800"/>
                <a:gridCol w="4124160"/>
                <a:gridCol w="988920"/>
                <a:gridCol w="1008360"/>
                <a:gridCol w="1079280"/>
              </a:tblGrid>
              <a:tr h="62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й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31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муниципальной службы в муниципальном образовании Междуреченского сельского поселения Заволжского муниципального район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3,8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3,8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3,8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Организация культурно-массовых мероприятий  на территории  Междуреченского сельского поселе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065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Профилактика правонарушений, борьба с преступностью и обеспечение безопасности граждан Междуреченского сельского поселе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31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поддержка субъектов малого и среднего предпринимательства в Междуреченском сельском поселении Заволжского муниципального рай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Противопожарная защита населённых пунктов Междуреченского сельского поселе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468360" y="333360"/>
          <a:ext cx="8175600" cy="3075120"/>
        </p:xfrm>
        <a:graphic>
          <a:graphicData uri="http://schemas.openxmlformats.org/drawingml/2006/table">
            <a:tbl>
              <a:tblPr/>
              <a:tblGrid>
                <a:gridCol w="1008000"/>
                <a:gridCol w="4199040"/>
                <a:gridCol w="984240"/>
                <a:gridCol w="1055520"/>
                <a:gridCol w="928800"/>
              </a:tblGrid>
              <a:tr h="77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й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6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Благоустройство  Междуреченского сельского поселения 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6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Развитие культуры на территории Междуреченского сельского  поселения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35,4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74,4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46,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6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 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63,6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02,7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75,0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51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428760" y="2786040"/>
          <a:ext cx="8229600" cy="1736640"/>
        </p:xfrm>
        <a:graphic>
          <a:graphicData uri="http://schemas.openxmlformats.org/drawingml/2006/table">
            <a:tbl>
              <a:tblPr/>
              <a:tblGrid>
                <a:gridCol w="4259160"/>
                <a:gridCol w="1295280"/>
                <a:gridCol w="1368360"/>
                <a:gridCol w="13068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2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(Проведение праздников и приобретение сувениров, подарков, призов и т.д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714240" y="2786040"/>
          <a:ext cx="7972560" cy="1554120"/>
        </p:xfrm>
        <a:graphic>
          <a:graphicData uri="http://schemas.openxmlformats.org/drawingml/2006/table">
            <a:tbl>
              <a:tblPr/>
              <a:tblGrid>
                <a:gridCol w="3500640"/>
                <a:gridCol w="1428840"/>
                <a:gridCol w="1428480"/>
                <a:gridCol w="1614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сходы на реализацию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На мероприятия по реализации программ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159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"/>
          <p:cNvGraphicFramePr/>
          <p:nvPr/>
        </p:nvGraphicFramePr>
        <p:xfrm>
          <a:off x="285840" y="2571840"/>
          <a:ext cx="8572320" cy="2103480"/>
        </p:xfrm>
        <a:graphic>
          <a:graphicData uri="http://schemas.openxmlformats.org/drawingml/2006/table">
            <a:tbl>
              <a:tblPr/>
              <a:tblGrid>
                <a:gridCol w="3643200"/>
                <a:gridCol w="1714680"/>
                <a:gridCol w="1643040"/>
                <a:gridCol w="1571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159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285840" y="2571840"/>
          <a:ext cx="8572320" cy="2103480"/>
        </p:xfrm>
        <a:graphic>
          <a:graphicData uri="http://schemas.openxmlformats.org/drawingml/2006/table">
            <a:tbl>
              <a:tblPr/>
              <a:tblGrid>
                <a:gridCol w="3643200"/>
                <a:gridCol w="1714680"/>
                <a:gridCol w="1643040"/>
                <a:gridCol w="1571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85,4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24,4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96,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это план доходов и расходов на определенный период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 для граждан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проект закона о бюджете в доступной и понятной форм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ный процесс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ежегодное формирование и исполнение бюдж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0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32644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53,8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53,8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53,8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4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8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8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8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960120" y="1936800"/>
            <a:ext cx="7137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ОСНОВНЫЕ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ХАРАКТЕРИСТИК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БЮДЖЕ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468360" y="119700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ходы бюджет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о безвозмезд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безвозвратные поступления денежных средств в бюдж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сходы бюджет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о выплачиваем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бюджета денежные сре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6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8425080" cy="12254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0" y="1483920"/>
            <a:ext cx="428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фиц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– 6 = -1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расходы больше доходов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ревышении расходов над доходами принимается решение об источниках покрытия дефицита (например, использовать имеющиеся накопления, остатки, взять в долг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47960" y="1599840"/>
            <a:ext cx="4244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фиц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– 4 = 1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оходы больше расходов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ревышении доходов над расходами принимается решение, как их использовать (например, накапливать резервы, остатки, погашать долг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Organization Chart 16"/>
          <p:cNvGrpSpPr/>
          <p:nvPr/>
        </p:nvGrpSpPr>
        <p:grpSpPr>
          <a:xfrm>
            <a:off x="395280" y="692280"/>
            <a:ext cx="8280000" cy="4854600"/>
            <a:chOff x="395280" y="692280"/>
            <a:chExt cx="8280000" cy="4854600"/>
          </a:xfrm>
        </p:grpSpPr>
        <p:cxnSp>
          <p:nvCxnSpPr>
            <p:cNvPr id="313" name="_s1028"/>
            <p:cNvCxnSpPr>
              <a:stCxn id="314" idx="0"/>
              <a:endCxn id="315" idx="2"/>
            </p:cNvCxnSpPr>
            <p:nvPr/>
          </p:nvCxnSpPr>
          <p:spPr>
            <a:xfrm flipV="1" rot="16200000">
              <a:off x="5498280" y="1669680"/>
              <a:ext cx="971640" cy="289872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6" name="_s1029"/>
            <p:cNvCxnSpPr>
              <a:stCxn id="317" idx="0"/>
              <a:endCxn id="315" idx="2"/>
            </p:cNvCxnSpPr>
            <p:nvPr/>
          </p:nvCxnSpPr>
          <p:spPr>
            <a:xfrm flipV="1">
              <a:off x="4534920" y="2633400"/>
              <a:ext cx="3960" cy="971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8" name="_s1030"/>
            <p:cNvCxnSpPr>
              <a:stCxn id="319" idx="0"/>
              <a:endCxn id="315" idx="2"/>
            </p:cNvCxnSpPr>
            <p:nvPr/>
          </p:nvCxnSpPr>
          <p:spPr>
            <a:xfrm flipH="1" flipV="1" rot="5400000">
              <a:off x="2600640" y="1670040"/>
              <a:ext cx="971640" cy="289872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5" name="_s1031"/>
            <p:cNvSpPr/>
            <p:nvPr/>
          </p:nvSpPr>
          <p:spPr>
            <a:xfrm>
              <a:off x="3293280" y="69228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800000"/>
                  </a:solidFill>
                  <a:latin typeface="Times New Roman"/>
                </a:rPr>
                <a:t>бюджета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_s1032"/>
            <p:cNvSpPr/>
            <p:nvPr/>
          </p:nvSpPr>
          <p:spPr>
            <a:xfrm>
              <a:off x="395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Налогов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_s1033"/>
            <p:cNvSpPr/>
            <p:nvPr/>
          </p:nvSpPr>
          <p:spPr>
            <a:xfrm>
              <a:off x="3293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Неналогов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_s1034"/>
            <p:cNvSpPr/>
            <p:nvPr/>
          </p:nvSpPr>
          <p:spPr>
            <a:xfrm>
              <a:off x="6191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Безвозмездн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поступлени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7" descr=""/>
          <p:cNvPicPr/>
          <p:nvPr/>
        </p:nvPicPr>
        <p:blipFill>
          <a:blip r:embed="rId1"/>
          <a:stretch/>
        </p:blipFill>
        <p:spPr>
          <a:xfrm>
            <a:off x="676440" y="23760"/>
            <a:ext cx="8205480" cy="16160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Налог на доходы физических лиц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Налог на имущество физических лиц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Налог на землю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Единый сельскохозяйственный налог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3:21:52Z</dcterms:created>
  <dc:creator/>
  <dc:description/>
  <dc:language>en-US</dc:language>
  <cp:lastModifiedBy>Admin</cp:lastModifiedBy>
  <cp:lastPrinted>2013-11-26T12:28:35Z</cp:lastPrinted>
  <dcterms:modified xsi:type="dcterms:W3CDTF">2017-12-12T12:14:57Z</dcterms:modified>
  <cp:revision>339</cp:revision>
  <dc:subject/>
  <dc:title>БЮДЖЕТ  для  граждан </dc:title>
</cp:coreProperties>
</file>