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F9E-0CBF-4A1B-AF39-536BC65A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82D-7722-493F-8BAE-9A2B2BFB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E61-4DF1-41B4-88C8-C4337A47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6D5-9724-46B9-A7D5-4B5BA718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6AC4-6309-4619-82F4-6B731EB7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ADB8-C481-403F-A05A-F4177FAC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6EFB-69C1-45A4-9C18-3C4C1D0B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2602-AED2-4863-AFE0-90E86BC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0F98-FE4F-44E6-A7DB-8B5FBB71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1B4-BAAF-4251-BDB7-070316A0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13EF-151A-4D07-B6F1-2CEEDDD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705-D923-4690-9331-F608B55E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15F7-8E5E-4064-A8E7-3F1083F2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7AF2-5F72-4C9A-B078-41FFE6DC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E240-E58A-4EA8-90FB-CB70C403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B091-516F-4780-9BB8-71AF5C4D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863E-67EF-4D4E-B6E7-B99F2DE3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AB4C-EC8E-4611-8CF0-87BDB6FC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D9B6-E12B-4A5D-961C-3622960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C5C50-2D3E-4EA1-BCE5-625AE929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DE92-18C6-48A3-8556-88E00D59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8BE1-10A8-4DED-83DC-4FFD3479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0B8-9F04-4B54-848E-8F85AFE5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368F-64C0-4902-80EC-DC8EFEFB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E74D-148F-4759-AC82-7278058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327F-C9F5-409C-9C60-412E07B6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9902-F982-4167-A86D-19E8A6DA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BB18-8FE2-4B4B-AEAC-9D0BCB64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421F-477B-44D5-B5A7-B2FDDABC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E45D-8867-4304-A5B7-2D26A89B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7D1E-3B87-4723-B1AB-A3B7CFAB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B242C-55E0-4D00-98E6-F6A96ED4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86DB-D547-43F6-9C93-2831ADF2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C89-E7C1-414B-966F-275AB732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2DC7-E2DF-4236-A642-48584CA4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1FD2-8514-494A-8D9E-CCB3DB2A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3DFB2-C0CC-4F68-98E9-A5555B64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526C-EE22-4C4C-8AB1-76682EE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0A2A9-0AB3-4299-A166-F5E72944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BF4E-406A-4610-94BC-E6861E6B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E05B-7D9A-4B90-ACDC-9AF95E3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F41D-1AE0-4B77-930E-49B0720B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B4E1-6D9D-4337-9A47-9C7BE925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05CA-7AD9-44DF-B4D9-40FECAA1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C27-29AD-445C-9C9C-6376E0EB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52AB2-2B3D-4FF5-8460-D07C0B65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258A2-4CBB-42F9-B9AB-47093370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4D5DF-E62A-4AAA-951F-FE75F7C6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13C5-AB4C-4951-A023-83BEB0AC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7FC0A-BF1A-4527-8E06-33025172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FEDC-4F46-4548-B84F-7E9FB7E5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9D57-7917-4957-98D8-BC290FD1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0011C-29FB-461D-B304-5C59AFA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D43A-9D17-45E1-BEDE-BBA4914C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B5F6-0102-4175-B21E-A57A6881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20A-4602-45CB-BC4F-FAD10483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18EF0-0462-4522-BC7C-A659E7D8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88ADA-C5E3-49D2-B6AD-2CEBA994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430D-4679-4D0F-B8FB-BCB84EF0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EC2E0-70E9-4DDE-BDDA-9B06F5A3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8DEF6-50CB-4C5C-8562-63A1024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3ADD-35F1-4469-962A-670EBA9B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6F41-AD83-4B6F-942C-4DEE0E93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D958-15AD-4DDF-B978-BF6B090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F589B-A426-4DA5-9BBF-E386CEAD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7196E-3BE8-4DCD-B6E6-5DA9762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B44-A264-4670-8F43-A35E45E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D36CF-FB97-47CB-B0A7-C335AB92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2F9F0-4BF5-42C4-843D-E0444058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FFC0B-2356-498A-90A7-DBA9AD6D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7875B-22DC-44C5-B834-C8F7E6E6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1C829-7C0D-4DF7-8D6D-E1B3D4A1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9CD07-762E-4925-B1E3-D6AAB5C3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E7AD-2082-468E-BFFC-85EB2293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3B2A7-5F89-4371-8DBC-8BA49D91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6B774-2E14-4A5C-9298-F019178E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953D7-5A92-422C-99AF-A9DAA88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479-2445-4EF4-8733-11D1486B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EDAF6-5234-4A7D-9781-BA512C9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0211-0BC5-4107-BD8C-C8D9CAC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8981-7805-4D89-8539-F5510A2F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71D72-7E92-419F-96B2-ABF025DC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53A49-6E03-4CE0-9E5F-1C3E8FD8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CC6-6814-48DC-AB69-A2D69A72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5E97-1EB5-4052-9378-EB56836EFF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0BCD-D7C8-4813-B69B-EED2A5E148E9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B072-DF6D-4C00-A91D-1DAA2B0749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2EA-85B3-4AF1-BF2D-6879872FFA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3A8F-A625-48F8-B767-E24ACDCB1F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E7B1-8B67-47D1-A4DC-5D480C17A7A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E011-4D33-4753-A610-740476F1C9F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468360" y="189000"/>
            <a:ext cx="8424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аемые жители Междуреченского сельского посел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вами бюджет, в котором в краткой и доступной форме отражены основные параметры бюджета Междуреченского сельского поселения на 2019 год и плановый период 2020 и 2021 г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е изложены так, чтобы каждый мог понять, на какие цели и в каком объеме направляются бюджетные сре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9 году бюджет расходов бюджета распределено в рамках 9 муниципальных програм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емся, что представление бюджета сельского поселения в понятной и доступной форме повысит уровень общественного участия граждан в бюджетном процессе Междуреченского сельского по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Междуреченского сельского по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622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Доходы от оказания платных услуг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очие неналоговые доход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407440" cy="1450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тации (предоставляются без определения конкретной цели их использ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венции (предоставляются на финансирование переданных полномочий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сидии (предоставляются на условиях долевого софинансир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Organization Chart 4"/>
          <p:cNvGrpSpPr/>
          <p:nvPr/>
        </p:nvGrpSpPr>
        <p:grpSpPr>
          <a:xfrm>
            <a:off x="468360" y="476280"/>
            <a:ext cx="8228880" cy="5681520"/>
            <a:chOff x="468360" y="476280"/>
            <a:chExt cx="8228880" cy="5681520"/>
          </a:xfrm>
        </p:grpSpPr>
        <p:cxnSp>
          <p:nvCxnSpPr>
            <p:cNvPr id="327" name="_s1028"/>
            <p:cNvCxnSpPr>
              <a:stCxn id="328" idx="0"/>
              <a:endCxn id="329" idx="2"/>
            </p:cNvCxnSpPr>
            <p:nvPr/>
          </p:nvCxnSpPr>
          <p:spPr>
            <a:xfrm flipV="1" rot="16200000">
              <a:off x="5614560" y="1716120"/>
              <a:ext cx="1136880" cy="320112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1029"/>
            <p:cNvCxnSpPr>
              <a:stCxn id="331" idx="0"/>
              <a:endCxn id="329" idx="2"/>
            </p:cNvCxnSpPr>
            <p:nvPr/>
          </p:nvCxnSpPr>
          <p:spPr>
            <a:xfrm flipV="1" rot="16200000">
              <a:off x="4547520" y="2783160"/>
              <a:ext cx="1136880" cy="106740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2" name="_s1030"/>
            <p:cNvCxnSpPr>
              <a:stCxn id="333" idx="0"/>
              <a:endCxn id="329" idx="2"/>
            </p:cNvCxnSpPr>
            <p:nvPr/>
          </p:nvCxnSpPr>
          <p:spPr>
            <a:xfrm flipH="1" flipV="1" rot="5400000">
              <a:off x="3480840" y="2783520"/>
              <a:ext cx="1136880" cy="106704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4" name="_s1031"/>
            <p:cNvCxnSpPr>
              <a:stCxn id="335" idx="0"/>
              <a:endCxn id="329" idx="2"/>
            </p:cNvCxnSpPr>
            <p:nvPr/>
          </p:nvCxnSpPr>
          <p:spPr>
            <a:xfrm flipH="1" flipV="1" rot="5400000">
              <a:off x="2413800" y="1716480"/>
              <a:ext cx="1136880" cy="320076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9" name="_s1032"/>
            <p:cNvSpPr/>
            <p:nvPr/>
          </p:nvSpPr>
          <p:spPr>
            <a:xfrm>
              <a:off x="3668400" y="47628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Состав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проекта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основа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</a:rPr>
                <a:t>НА 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46836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бюджетном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ослан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резидента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РФ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_s1034"/>
            <p:cNvSpPr/>
            <p:nvPr/>
          </p:nvSpPr>
          <p:spPr>
            <a:xfrm>
              <a:off x="260172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рогноз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социально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экономического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развит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_s1035"/>
            <p:cNvSpPr/>
            <p:nvPr/>
          </p:nvSpPr>
          <p:spPr>
            <a:xfrm>
              <a:off x="473544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основны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направления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бюджетной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налогов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таможенно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тарифн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олити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_s1036"/>
            <p:cNvSpPr/>
            <p:nvPr/>
          </p:nvSpPr>
          <p:spPr>
            <a:xfrm>
              <a:off x="686880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муниципальны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Times New Roman"/>
                </a:rPr>
                <a:t>программа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822240" y="512640"/>
            <a:ext cx="8040600" cy="1833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собираемости платежей в бюдже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изация и повышение эффективности бюджетных расход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фективное управление муниципальной собственность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ка и принятие муниципальных програм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мизация бюджетного дефици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64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395280" y="1989000"/>
          <a:ext cx="8353440" cy="3713400"/>
        </p:xfrm>
        <a:graphic>
          <a:graphicData uri="http://schemas.openxmlformats.org/drawingml/2006/table">
            <a:tbl>
              <a:tblPr/>
              <a:tblGrid>
                <a:gridCol w="725400"/>
                <a:gridCol w="3832200"/>
                <a:gridCol w="1265400"/>
                <a:gridCol w="1265040"/>
                <a:gridCol w="126540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82,2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26,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95,0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79,2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40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77,7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47,4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54,5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82,2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26,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95,0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ФИЦИТ (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633240" y="-122400"/>
            <a:ext cx="8132760" cy="12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571680" y="1214280"/>
          <a:ext cx="8218440" cy="3749760"/>
        </p:xfrm>
        <a:graphic>
          <a:graphicData uri="http://schemas.openxmlformats.org/drawingml/2006/table">
            <a:tbl>
              <a:tblPr/>
              <a:tblGrid>
                <a:gridCol w="4319280"/>
                <a:gridCol w="927360"/>
                <a:gridCol w="1073160"/>
                <a:gridCol w="944280"/>
                <a:gridCol w="954360"/>
              </a:tblGrid>
              <a:tr h="100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орматив зачисления в местный бюдж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.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060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132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19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ДФ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4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5,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6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имущество  физических 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7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7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.Не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предоставления платных усл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993600" y="469800"/>
            <a:ext cx="8156880" cy="15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539640" y="492120"/>
          <a:ext cx="8280360" cy="5346720"/>
        </p:xfrm>
        <a:graphic>
          <a:graphicData uri="http://schemas.openxmlformats.org/drawingml/2006/table">
            <a:tbl>
              <a:tblPr/>
              <a:tblGrid>
                <a:gridCol w="4746600"/>
                <a:gridCol w="1214640"/>
                <a:gridCol w="1143000"/>
                <a:gridCol w="1176120"/>
              </a:tblGrid>
              <a:tr h="83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.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174,7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447,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054,5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787,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680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326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724,3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86,1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47,9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82,6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0,5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0,7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Субвенции бюджетам на осуществление первичного воинского учета на территориях, где отсутствуют военные комиссари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Субвенции бюджетам сельских поселений на осуществление полномочий по составлению (изменению) списков кандидатов в присяжные заседатели федеральных судов общей юрисдикции в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3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  ДОХОДОВ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0282,2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9626,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9295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45" name="Таблица 3" descr=""/>
          <p:cNvPicPr/>
          <p:nvPr/>
        </p:nvPicPr>
        <p:blipFill>
          <a:blip r:embed="rId2"/>
          <a:stretch/>
        </p:blipFill>
        <p:spPr>
          <a:xfrm>
            <a:off x="647640" y="1598760"/>
            <a:ext cx="81136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7" name="Объект 4" descr=""/>
          <p:cNvPicPr/>
          <p:nvPr/>
        </p:nvPicPr>
        <p:blipFill>
          <a:blip r:embed="rId2"/>
          <a:stretch/>
        </p:blipFill>
        <p:spPr>
          <a:xfrm>
            <a:off x="717480" y="1967040"/>
            <a:ext cx="8043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Объект 3" descr=""/>
          <p:cNvPicPr/>
          <p:nvPr/>
        </p:nvPicPr>
        <p:blipFill>
          <a:blip r:embed="rId2"/>
          <a:stretch/>
        </p:blipFill>
        <p:spPr>
          <a:xfrm>
            <a:off x="914400" y="1968480"/>
            <a:ext cx="74772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642960" y="357120"/>
            <a:ext cx="77724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для</a:t>
            </a:r>
            <a:r>
              <a:rPr b="1" lang="ru-RU" sz="8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гражд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Times New Roman"/>
              </a:rPr>
              <a:t>Бюджет Междуреченского сельского поселения на 2019 год и плановый период 2020 и 2021 год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242560" cy="66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539640" y="765000"/>
          <a:ext cx="8050320" cy="5232600"/>
        </p:xfrm>
        <a:graphic>
          <a:graphicData uri="http://schemas.openxmlformats.org/drawingml/2006/table">
            <a:tbl>
              <a:tblPr/>
              <a:tblGrid>
                <a:gridCol w="1136880"/>
                <a:gridCol w="3047760"/>
                <a:gridCol w="1447920"/>
                <a:gridCol w="1203480"/>
                <a:gridCol w="1214280"/>
              </a:tblGrid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82,2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26,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95,0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сударств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4,6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4,8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4,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. безопасность и правоохран.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8,1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8,1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8,1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К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16,2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68,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68,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95,8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87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56,8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,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,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,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53" name="Объект 5" descr=""/>
          <p:cNvPicPr/>
          <p:nvPr/>
        </p:nvPicPr>
        <p:blipFill>
          <a:blip r:embed="rId2"/>
          <a:stretch/>
        </p:blipFill>
        <p:spPr>
          <a:xfrm>
            <a:off x="928800" y="2071800"/>
            <a:ext cx="71881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353880" y="23760"/>
            <a:ext cx="8240760" cy="1347840"/>
          </a:xfrm>
          <a:prstGeom prst="rect">
            <a:avLst/>
          </a:prstGeom>
          <a:ln w="0">
            <a:noFill/>
          </a:ln>
        </p:spPr>
      </p:pic>
      <p:pic>
        <p:nvPicPr>
          <p:cNvPr id="355" name="Объект 3" descr=""/>
          <p:cNvPicPr/>
          <p:nvPr/>
        </p:nvPicPr>
        <p:blipFill>
          <a:blip r:embed="rId2"/>
          <a:stretch/>
        </p:blipFill>
        <p:spPr>
          <a:xfrm>
            <a:off x="185760" y="1500120"/>
            <a:ext cx="8958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57" name="Объект 3" descr=""/>
          <p:cNvPicPr/>
          <p:nvPr/>
        </p:nvPicPr>
        <p:blipFill>
          <a:blip r:embed="rId2"/>
          <a:stretch/>
        </p:blipFill>
        <p:spPr>
          <a:xfrm>
            <a:off x="871560" y="1969920"/>
            <a:ext cx="7400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676440" y="-96840"/>
            <a:ext cx="82422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642960" y="1357200"/>
          <a:ext cx="8053200" cy="4929480"/>
        </p:xfrm>
        <a:graphic>
          <a:graphicData uri="http://schemas.openxmlformats.org/drawingml/2006/table">
            <a:tbl>
              <a:tblPr/>
              <a:tblGrid>
                <a:gridCol w="784080"/>
                <a:gridCol w="858960"/>
                <a:gridCol w="3214800"/>
                <a:gridCol w="1071360"/>
                <a:gridCol w="1071720"/>
                <a:gridCol w="105228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4,6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4,8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4,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 высшего должностного лица субъекта Российской Федерации и муниципального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30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Правительства РФ, высших исполнительных органов государственной власти субъектов РФ, местных админист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8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8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8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49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.общегосуд-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57200" y="1882800"/>
          <a:ext cx="8229600" cy="2363760"/>
        </p:xfrm>
        <a:graphic>
          <a:graphicData uri="http://schemas.openxmlformats.org/drawingml/2006/table">
            <a:tbl>
              <a:tblPr/>
              <a:tblGrid>
                <a:gridCol w="971640"/>
                <a:gridCol w="1285920"/>
                <a:gridCol w="2643120"/>
                <a:gridCol w="1000080"/>
                <a:gridCol w="1143000"/>
                <a:gridCol w="1185840"/>
              </a:tblGrid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обилизация и вневойсков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242560" cy="12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500040" y="1714680"/>
          <a:ext cx="8269200" cy="2724120"/>
        </p:xfrm>
        <a:graphic>
          <a:graphicData uri="http://schemas.openxmlformats.org/drawingml/2006/table">
            <a:tbl>
              <a:tblPr/>
              <a:tblGrid>
                <a:gridCol w="792360"/>
                <a:gridCol w="1068120"/>
                <a:gridCol w="3417840"/>
                <a:gridCol w="997200"/>
                <a:gridCol w="1060200"/>
                <a:gridCol w="9334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374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ивопожарная защита населённых пунктов Междуреченского сельского по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242560" cy="12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500040" y="1714680"/>
          <a:ext cx="8269200" cy="4303440"/>
        </p:xfrm>
        <a:graphic>
          <a:graphicData uri="http://schemas.openxmlformats.org/drawingml/2006/table">
            <a:tbl>
              <a:tblPr/>
              <a:tblGrid>
                <a:gridCol w="792360"/>
                <a:gridCol w="1068120"/>
                <a:gridCol w="3417840"/>
                <a:gridCol w="997200"/>
                <a:gridCol w="1060200"/>
                <a:gridCol w="9334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8,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8,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8,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Комплексное развитие транспортной инфраструктуры на территории Междуреченского сельского поселения Заволжского муниципального района на 2017-2026 годы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8,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8,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8,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250920" y="1285920"/>
          <a:ext cx="8580240" cy="4043160"/>
        </p:xfrm>
        <a:graphic>
          <a:graphicData uri="http://schemas.openxmlformats.org/drawingml/2006/table">
            <a:tbl>
              <a:tblPr/>
              <a:tblGrid>
                <a:gridCol w="834840"/>
                <a:gridCol w="1128960"/>
                <a:gridCol w="3754440"/>
                <a:gridCol w="888840"/>
                <a:gridCol w="1071720"/>
                <a:gridCol w="90144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16,2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68,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68,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7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аго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 уличное освещ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 энергосбереже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мероприятия в области Жилищно-коммунального хозяйства(управление М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16,2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68,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68,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4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395280" y="1989000"/>
          <a:ext cx="8319960" cy="2049480"/>
        </p:xfrm>
        <a:graphic>
          <a:graphicData uri="http://schemas.openxmlformats.org/drawingml/2006/table">
            <a:tbl>
              <a:tblPr/>
              <a:tblGrid>
                <a:gridCol w="800280"/>
                <a:gridCol w="1144440"/>
                <a:gridCol w="3160800"/>
                <a:gridCol w="1143000"/>
                <a:gridCol w="1071360"/>
                <a:gridCol w="10000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95,8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87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56,8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95,8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87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56,8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pic>
        <p:nvPicPr>
          <p:cNvPr id="304" name="Содержимое 3" descr="Рисунок1.pn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71680" y="7142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Междуреченское Сельск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по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0720" y="407880"/>
            <a:ext cx="824256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"/>
          <p:cNvGraphicFramePr/>
          <p:nvPr/>
        </p:nvGraphicFramePr>
        <p:xfrm>
          <a:off x="457200" y="1600200"/>
          <a:ext cx="8435880" cy="2049480"/>
        </p:xfrm>
        <a:graphic>
          <a:graphicData uri="http://schemas.openxmlformats.org/drawingml/2006/table">
            <a:tbl>
              <a:tblPr/>
              <a:tblGrid>
                <a:gridCol w="730080"/>
                <a:gridCol w="1008360"/>
                <a:gridCol w="3816360"/>
                <a:gridCol w="936360"/>
                <a:gridCol w="909720"/>
                <a:gridCol w="103500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енс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463680" y="762120"/>
            <a:ext cx="8242200" cy="1584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2420640"/>
            <a:ext cx="8686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цели и задачи реализуемой политики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определенной сфер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пособы их достижения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20840" y="-152280"/>
            <a:ext cx="8242200" cy="16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5" name=""/>
          <p:cNvGraphicFramePr/>
          <p:nvPr/>
        </p:nvGraphicFramePr>
        <p:xfrm>
          <a:off x="357120" y="714240"/>
          <a:ext cx="8291520" cy="5961240"/>
        </p:xfrm>
        <a:graphic>
          <a:graphicData uri="http://schemas.openxmlformats.org/drawingml/2006/table">
            <a:tbl>
              <a:tblPr/>
              <a:tblGrid>
                <a:gridCol w="1090800"/>
                <a:gridCol w="4124160"/>
                <a:gridCol w="988920"/>
                <a:gridCol w="1008360"/>
                <a:gridCol w="107928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муниципальной службы в муниципальном образовании Междуреченского сельского поселения Заволжского муниципального райо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Организация культурно-массовых мероприятий  на территории 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06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Профилактика правонарушений, борьба с преступностью и обеспечение безопасности граждан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поддержка субъектов малого и среднего предпринимательства в Междуреченском сельском поселении Заволжского муниципального рай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Противопожарная защита населённых пунктов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468360" y="333360"/>
          <a:ext cx="8175600" cy="3075120"/>
        </p:xfrm>
        <a:graphic>
          <a:graphicData uri="http://schemas.openxmlformats.org/drawingml/2006/table">
            <a:tbl>
              <a:tblPr/>
              <a:tblGrid>
                <a:gridCol w="1008000"/>
                <a:gridCol w="4199040"/>
                <a:gridCol w="984240"/>
                <a:gridCol w="1055520"/>
                <a:gridCol w="928800"/>
              </a:tblGrid>
              <a:tr h="77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Благоустройство  Междуреченского сельского поселения 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Развитие культуры на территории Междуреченского сельского  поселения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95,8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87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56,8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95,8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87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56,8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5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28760" y="2786040"/>
          <a:ext cx="8229600" cy="1736640"/>
        </p:xfrm>
        <a:graphic>
          <a:graphicData uri="http://schemas.openxmlformats.org/drawingml/2006/table">
            <a:tbl>
              <a:tblPr/>
              <a:tblGrid>
                <a:gridCol w="4259160"/>
                <a:gridCol w="1295280"/>
                <a:gridCol w="1368360"/>
                <a:gridCol w="13068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(Проведение праздников и приобретение сувениров, подарков, призов и т.д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5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285840" y="2571840"/>
          <a:ext cx="8572320" cy="2103480"/>
        </p:xfrm>
        <a:graphic>
          <a:graphicData uri="http://schemas.openxmlformats.org/drawingml/2006/table">
            <a:tbl>
              <a:tblPr/>
              <a:tblGrid>
                <a:gridCol w="3643200"/>
                <a:gridCol w="1714680"/>
                <a:gridCol w="1643040"/>
                <a:gridCol w="1571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5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285840" y="2571840"/>
          <a:ext cx="8572320" cy="2103480"/>
        </p:xfrm>
        <a:graphic>
          <a:graphicData uri="http://schemas.openxmlformats.org/drawingml/2006/table">
            <a:tbl>
              <a:tblPr/>
              <a:tblGrid>
                <a:gridCol w="3643200"/>
                <a:gridCol w="1714680"/>
                <a:gridCol w="1643040"/>
                <a:gridCol w="1571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5,8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7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6,8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это план доходов и расходов на определенный перио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 для граждан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проект закона о бюджете в доступной и понятной форм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ный процесс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ежегодное формирование и исполнение бюдж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0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32644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998,1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998,1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998,1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960120" y="1936800"/>
            <a:ext cx="713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НЫЕ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ХАРАКТЕРИСТИ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6836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безвозмезд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безвозвратные поступления денежных средств в бюдж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выплачиваем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бюджета денеж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6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425080" cy="12254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0" y="1483920"/>
            <a:ext cx="42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6 = -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сходы больше до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расходов над доходами принимается решение об источниках покрытия дефицита (например, использовать имеющиеся накопления, остатки, взять в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4 = 1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оходы больше рас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доходов над расходами принимается решение, как их использовать (например, накапливать резервы, остатки, погашать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Organization Chart 16"/>
          <p:cNvGrpSpPr/>
          <p:nvPr/>
        </p:nvGrpSpPr>
        <p:grpSpPr>
          <a:xfrm>
            <a:off x="395280" y="692280"/>
            <a:ext cx="8280000" cy="4854600"/>
            <a:chOff x="395280" y="692280"/>
            <a:chExt cx="8280000" cy="4854600"/>
          </a:xfrm>
        </p:grpSpPr>
        <p:cxnSp>
          <p:nvCxnSpPr>
            <p:cNvPr id="313" name="_s1028"/>
            <p:cNvCxnSpPr>
              <a:stCxn id="314" idx="0"/>
              <a:endCxn id="315" idx="2"/>
            </p:cNvCxnSpPr>
            <p:nvPr/>
          </p:nvCxnSpPr>
          <p:spPr>
            <a:xfrm flipV="1" rot="16200000">
              <a:off x="5498280" y="166968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1029"/>
            <p:cNvCxnSpPr>
              <a:stCxn id="317" idx="0"/>
              <a:endCxn id="315" idx="2"/>
            </p:cNvCxnSpPr>
            <p:nvPr/>
          </p:nvCxnSpPr>
          <p:spPr>
            <a:xfrm flipV="1">
              <a:off x="4534920" y="2633400"/>
              <a:ext cx="3960" cy="971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1030"/>
            <p:cNvCxnSpPr>
              <a:stCxn id="319" idx="0"/>
              <a:endCxn id="315" idx="2"/>
            </p:cNvCxnSpPr>
            <p:nvPr/>
          </p:nvCxnSpPr>
          <p:spPr>
            <a:xfrm flipH="1" flipV="1" rot="5400000">
              <a:off x="2600640" y="167004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5" name="_s1031"/>
            <p:cNvSpPr/>
            <p:nvPr/>
          </p:nvSpPr>
          <p:spPr>
            <a:xfrm>
              <a:off x="3293280" y="69228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_s1032"/>
            <p:cNvSpPr/>
            <p:nvPr/>
          </p:nvSpPr>
          <p:spPr>
            <a:xfrm>
              <a:off x="395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_s1033"/>
            <p:cNvSpPr/>
            <p:nvPr/>
          </p:nvSpPr>
          <p:spPr>
            <a:xfrm>
              <a:off x="3293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е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_s1034"/>
            <p:cNvSpPr/>
            <p:nvPr/>
          </p:nvSpPr>
          <p:spPr>
            <a:xfrm>
              <a:off x="6191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Безвозмездн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поступлен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7" descr=""/>
          <p:cNvPicPr/>
          <p:nvPr/>
        </p:nvPicPr>
        <p:blipFill>
          <a:blip r:embed="rId1"/>
          <a:stretch/>
        </p:blipFill>
        <p:spPr>
          <a:xfrm>
            <a:off x="676440" y="23760"/>
            <a:ext cx="8205480" cy="1616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Налог на землю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Единый сельскохозяйственный налог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3:21:52Z</dcterms:created>
  <dc:creator/>
  <dc:description/>
  <dc:language>en-US</dc:language>
  <cp:lastModifiedBy>Admin</cp:lastModifiedBy>
  <cp:lastPrinted>2013-11-26T12:28:35Z</cp:lastPrinted>
  <dcterms:modified xsi:type="dcterms:W3CDTF">2018-12-24T05:27:22Z</dcterms:modified>
  <cp:revision>350</cp:revision>
  <dc:subject/>
  <dc:title>БЮДЖЕТ  для  граждан </dc:title>
</cp:coreProperties>
</file>