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39F-8B70-480F-A0B4-E102D36D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5F7-98A5-48B9-818C-41C9BCA2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2C1-D0E7-404E-A6EC-E98B3C13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C3F-D790-4352-8EDB-022303FB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DBAC-7AA2-4A07-8871-09C912B9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1FDC-053C-4255-8FF2-93359053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CDC9-41F2-4736-A315-8CE49219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CE89-E51C-48E8-B2BC-09AA4CDC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8477-8277-48C1-BB0D-6EE9642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28C8-6C73-4CC7-9CB4-E263F05E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44A1-54AD-4B9C-AAF1-EEC7B28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EC9-17B4-483A-984D-F9F0BC7C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DFEA-70B9-4D37-BD74-C1664D44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7132-C43A-49FC-97DC-35AE01C2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48F1-6A73-4E71-A51A-D144474D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7F16-B84F-4562-98E8-BDEB3C17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427E-545C-4961-BA9C-3D563AC5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06B73-EC6C-4A74-8B1E-3B806347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AA82B-E214-4E10-B277-FEAAD54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1CEC-A7C7-40FC-9E91-00E7175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A32B-6516-426C-AE34-73FCB56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E46D-C918-429B-BC68-F371549B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C38-4C0E-4B3C-AEB8-BD34ACE9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BA45-2FD0-4450-BD7A-22E5B9AC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02B5-7CA2-45BF-B58A-5DF04E4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3491-F954-4F14-853D-2919B81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2E94-F5A1-42FE-AB7F-2BBDAB3F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4751-C929-4180-804D-C6B6B93A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4014-7B59-450D-BBBF-89DDC285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7C22-8E44-4999-976C-55BCB2C2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652B-C6A8-4DD3-A059-DCAFB650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3823-1A1B-46EC-95BF-A3179590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4FB8-5809-4CD4-A5B6-B60D74E3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0DD-E6EC-4CEF-B57A-C8F87828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FF2CA-0339-4E7C-9FC7-0C05A737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282A-A3B0-4C1E-8D92-A8B711E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7FE7-B34C-40E2-9297-E3F9B424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AA894-B114-4299-A064-9A5C38D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5893E-4260-4CEE-B507-7A47769C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7C49-BBD6-4A2A-BEE6-8B47840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F751-7C93-4500-8540-EBBEDDE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5DC4-12F2-48E5-B950-4416049B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46CC-14FD-49D9-A330-57C27462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F001-1D08-4EAB-B46F-E60C9C6C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97F-C140-4E53-8D62-F7DFD817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78936-F84B-4CDF-8FDE-D34DC27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F328-9528-4AA0-983B-09C2883C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79B3-70D4-4A06-906B-0E4A8FB5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CF1E3-27EB-4EB2-8E93-E7A33E1E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D6AC1-0411-4C54-984B-B1E3668A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47B6-A091-4ABB-B0D9-83751780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5DC0E-F377-4DC6-B76C-66DBA957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B2DB-15F6-466C-9D3C-1EA259A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905F-D807-410E-8B0C-E2AD66A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7D02-D878-4FFD-A0CB-66B919F2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9B9-A84C-41C6-82C1-CE8273E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E6020-8E99-4E75-AF75-25B24283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3639-2D7E-4733-ADEF-132BB759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0060A-77D0-4439-A5CA-4D0B12CA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254D-8559-45D9-A968-8846F00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3198A-5919-432C-A517-1108A0F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32AC-F624-4B37-95AB-324051B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C325C-FC5B-4E63-B6BC-559271D0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33DA-B570-4958-AA38-7765F55C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94381-5450-4185-BFBC-E34E2F13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B0767-815D-4569-B20C-F9D3E5D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D7B-9EB6-4D4B-8412-C1506FD4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B2F8-6AA4-4EBA-8746-960FCD23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3E3EA-4265-4E30-892D-10B908F2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2D6F3-EF24-425F-80F6-6599F88A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293F3-44F4-42CB-9C2B-E3E1A78D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419E2-7741-488A-88FA-3557E3DC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11040-B6B7-4E52-8814-83A09488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B52C9-C52A-4D92-91B9-9F51EAD7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A4B6-27DB-4BAE-B132-13E22B11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FE6FC-E8F8-4A26-A748-B5350DA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EF05-5FD1-4BF9-BCA7-00E5FB6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DE6-AE4D-45BB-8C85-7003AD1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EC447-06F6-455B-90B0-0F5CBD5E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8307C-8955-485B-B18A-B9893B8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3A1F9-38AE-4550-B94B-B67B30F9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9BD5-CB83-4D58-8D3E-BA6472EE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69FB-96E2-4198-9166-AA36F926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852-A370-4FEA-81E0-80C0FBD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2101-0C5E-461B-99F0-AADE2EADF4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D53F-EF3B-47F5-A320-44E1006DB7D1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1C8-575E-4ABA-8BB8-17AAA0BB65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bf5f9">
                  <a:alpha val="1176"/>
                </a:srgbClr>
              </a:gs>
              <a:gs pos="100000">
                <a:srgbClr val="dbf5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03f91"/>
              </a:gs>
              <a:gs pos="100000">
                <a:srgbClr val="74a0f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4c7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ac0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E1B-47BB-466A-B8B2-DB9885E97B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5610-9E67-442B-8AD2-CF0FF2DF7B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8e"/>
            </a:gs>
            <a:gs pos="100000">
              <a:srgbClr val="299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D94-C06D-49CD-80CE-92DDDFD6846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c8fe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5c8fe9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0f6fc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8aa4d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A5DE-FA15-49AF-B0A0-2906B50EA90D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468360" y="189000"/>
            <a:ext cx="8424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ажаемые жители Междуреченского сельского посе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д вами бюджет для граждан, в котором в краткой и доступной форме отражены основные параметры бюджета Междуреченского сельского поселения на 2021 год и плановый период 2022 и 2023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ные изложены так, чтобы каждый мог понять, на какие цели и в каком объеме направляются бюджетные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2021 году бюджет состоит из 8 муниципальных программ это 63 % расходов всего бюджет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еемся, что представление бюджета сельского поселения в понятной и доступной форме повысит уровень общественного участия граждан в бюджетном процессе Междуречен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Междуреченского сельского по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1834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Доходы от оказания платных услуг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очие неналоговые доходы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400960" cy="1530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тации (предоставляются без определения конкретной цели их использ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венции (предоставляются на финансирование переданных полномочий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бсидии (предоставляются на условиях долевого софинансирования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Organization Chart 4"/>
          <p:cNvGrpSpPr/>
          <p:nvPr/>
        </p:nvGrpSpPr>
        <p:grpSpPr>
          <a:xfrm>
            <a:off x="468360" y="476280"/>
            <a:ext cx="8228880" cy="5681520"/>
            <a:chOff x="468360" y="476280"/>
            <a:chExt cx="8228880" cy="5681520"/>
          </a:xfrm>
        </p:grpSpPr>
        <p:cxnSp>
          <p:nvCxnSpPr>
            <p:cNvPr id="327" name="_s1028"/>
            <p:cNvCxnSpPr>
              <a:stCxn id="328" idx="0"/>
              <a:endCxn id="329" idx="2"/>
            </p:cNvCxnSpPr>
            <p:nvPr/>
          </p:nvCxnSpPr>
          <p:spPr>
            <a:xfrm flipV="1" rot="16200000">
              <a:off x="5614560" y="1716120"/>
              <a:ext cx="1136880" cy="320112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0" name="_s1029"/>
            <p:cNvCxnSpPr>
              <a:stCxn id="331" idx="0"/>
              <a:endCxn id="329" idx="2"/>
            </p:cNvCxnSpPr>
            <p:nvPr/>
          </p:nvCxnSpPr>
          <p:spPr>
            <a:xfrm flipV="1" rot="16200000">
              <a:off x="4547520" y="2783160"/>
              <a:ext cx="1136880" cy="106740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2" name="_s1030"/>
            <p:cNvCxnSpPr>
              <a:stCxn id="333" idx="0"/>
              <a:endCxn id="329" idx="2"/>
            </p:cNvCxnSpPr>
            <p:nvPr/>
          </p:nvCxnSpPr>
          <p:spPr>
            <a:xfrm flipH="1" flipV="1" rot="5400000">
              <a:off x="3480840" y="2783520"/>
              <a:ext cx="1136880" cy="106704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34" name="_s1031"/>
            <p:cNvCxnSpPr>
              <a:stCxn id="335" idx="0"/>
              <a:endCxn id="329" idx="2"/>
            </p:cNvCxnSpPr>
            <p:nvPr/>
          </p:nvCxnSpPr>
          <p:spPr>
            <a:xfrm flipH="1" flipV="1" rot="5400000">
              <a:off x="2413800" y="1716480"/>
              <a:ext cx="1136880" cy="3200760"/>
            </a:xfrm>
            <a:prstGeom prst="bentConnector3">
              <a:avLst>
                <a:gd name="adj1" fmla="val 12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29" name="_s1032"/>
            <p:cNvSpPr/>
            <p:nvPr/>
          </p:nvSpPr>
          <p:spPr>
            <a:xfrm>
              <a:off x="3668400" y="47628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Составление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проекта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основано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НА 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_s1033"/>
            <p:cNvSpPr/>
            <p:nvPr/>
          </p:nvSpPr>
          <p:spPr>
            <a:xfrm>
              <a:off x="46836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м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слан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езидента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Ф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260172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ноз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социально-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экономического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развит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_s1035"/>
            <p:cNvSpPr/>
            <p:nvPr/>
          </p:nvSpPr>
          <p:spPr>
            <a:xfrm>
              <a:off x="473544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основны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аправления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бюджетно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и налогово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олитик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_s1036"/>
            <p:cNvSpPr/>
            <p:nvPr/>
          </p:nvSpPr>
          <p:spPr>
            <a:xfrm>
              <a:off x="6868800" y="3885120"/>
              <a:ext cx="1828440" cy="227268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272680"/>
                <a:gd name="textAreaBottom" fmla="*/ 2183760 h 2272680"/>
              </a:gdLst>
              <a:ahLst/>
              <a:rect l="textAreaLeft" t="textAreaTop" r="textAreaRight" b="textAreaBottom"/>
              <a:pathLst>
                <a:path w="21600" h="26847">
                  <a:moveTo>
                    <a:pt x="3600" y="0"/>
                  </a:moveTo>
                  <a:arcTo wR="3600" hR="3600" stAng="16200000" swAng="-5400000"/>
                  <a:lnTo>
                    <a:pt x="0" y="23247"/>
                  </a:lnTo>
                  <a:arcTo wR="3600" hR="3600" stAng="10800000" swAng="-5400000"/>
                  <a:lnTo>
                    <a:pt x="18000" y="26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муниципальных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программах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828720" y="517680"/>
            <a:ext cx="8029440" cy="20923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собираемости платежей в бюдже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и повышение эффективности бюджетных расходо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ффективное управление муниципальной собственность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и принятие муниципальных програм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нимизация бюджетного дефицит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229600" cy="186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395280" y="1989000"/>
          <a:ext cx="8137440" cy="3891240"/>
        </p:xfrm>
        <a:graphic>
          <a:graphicData uri="http://schemas.openxmlformats.org/drawingml/2006/table">
            <a:tbl>
              <a:tblPr/>
              <a:tblGrid>
                <a:gridCol w="725400"/>
                <a:gridCol w="3832200"/>
                <a:gridCol w="1265400"/>
                <a:gridCol w="1265040"/>
                <a:gridCol w="1049400"/>
              </a:tblGrid>
              <a:tr h="62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045,324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31,8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425,618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66,5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20,1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47,6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278,7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3,0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35,134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045,324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483,2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425,618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ФИЦИТ (-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639720" y="-122400"/>
            <a:ext cx="8120160" cy="14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571680" y="1214280"/>
          <a:ext cx="8218440" cy="4572000"/>
        </p:xfrm>
        <a:graphic>
          <a:graphicData uri="http://schemas.openxmlformats.org/drawingml/2006/table">
            <a:tbl>
              <a:tblPr/>
              <a:tblGrid>
                <a:gridCol w="4319280"/>
                <a:gridCol w="927360"/>
                <a:gridCol w="1073160"/>
                <a:gridCol w="944280"/>
                <a:gridCol w="954360"/>
              </a:tblGrid>
              <a:tr h="100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орматив зачисления в местный бюдж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.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766,5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820,1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847,6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ДФ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6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6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7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имущество  физических 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Налог н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7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29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2.Неналоговые дох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26,0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6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53,6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предоставления платных услу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79,0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6,6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6,6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1000080" y="476280"/>
            <a:ext cx="8143920" cy="1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539640" y="492120"/>
          <a:ext cx="8280360" cy="3822840"/>
        </p:xfrm>
        <a:graphic>
          <a:graphicData uri="http://schemas.openxmlformats.org/drawingml/2006/table">
            <a:tbl>
              <a:tblPr/>
              <a:tblGrid>
                <a:gridCol w="5032440"/>
                <a:gridCol w="1071720"/>
                <a:gridCol w="1093680"/>
                <a:gridCol w="1082520"/>
              </a:tblGrid>
              <a:tr h="59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.Безвозмездные поступ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278,7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663,0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Century Gothic"/>
                        </a:rPr>
                        <a:t>6634,375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Дот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6238,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141,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5147,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сид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488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Субвен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Субвенции бюджетам на осуществление первичного воинского учета на территориях, где отсутствуют военные комиссари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  ДОХОДОВ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10045,32486</a:t>
                      </a:r>
                      <a:r>
                        <a:rPr b="0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483,2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8482,818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628640"/>
          </a:xfrm>
          <a:prstGeom prst="rect">
            <a:avLst/>
          </a:prstGeom>
          <a:ln w="0">
            <a:noFill/>
          </a:ln>
        </p:spPr>
      </p:pic>
      <p:pic>
        <p:nvPicPr>
          <p:cNvPr id="345" name="Таблица 3" descr=""/>
          <p:cNvPicPr/>
          <p:nvPr/>
        </p:nvPicPr>
        <p:blipFill>
          <a:blip r:embed="rId2"/>
          <a:stretch/>
        </p:blipFill>
        <p:spPr>
          <a:xfrm>
            <a:off x="647640" y="1598760"/>
            <a:ext cx="81136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7" name="Объект 4" descr=""/>
          <p:cNvPicPr/>
          <p:nvPr/>
        </p:nvPicPr>
        <p:blipFill>
          <a:blip r:embed="rId2"/>
          <a:stretch/>
        </p:blipFill>
        <p:spPr>
          <a:xfrm>
            <a:off x="717480" y="1967040"/>
            <a:ext cx="8043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809720"/>
          </a:xfrm>
          <a:prstGeom prst="rect">
            <a:avLst/>
          </a:prstGeom>
          <a:ln w="0">
            <a:noFill/>
          </a:ln>
        </p:spPr>
      </p:pic>
      <p:pic>
        <p:nvPicPr>
          <p:cNvPr id="349" name="Объект 3" descr=""/>
          <p:cNvPicPr/>
          <p:nvPr/>
        </p:nvPicPr>
        <p:blipFill>
          <a:blip r:embed="rId2"/>
          <a:stretch/>
        </p:blipFill>
        <p:spPr>
          <a:xfrm>
            <a:off x="914400" y="1968480"/>
            <a:ext cx="74772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42960" y="357120"/>
            <a:ext cx="7772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br>
              <a:rPr sz="4800"/>
            </a:br>
            <a:r>
              <a:rPr b="1" lang="ru-RU" sz="4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для</a:t>
            </a:r>
            <a:r>
              <a:rPr b="1" lang="ru-RU" sz="8800" spc="-1" strike="noStrike">
                <a:solidFill>
                  <a:srgbClr val="dbf5f9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граждан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dbf5f9"/>
                </a:solidFill>
                <a:latin typeface="Times New Roman"/>
              </a:rPr>
              <a:t>к бюджету Междуреченского сельского поселения на 2021 год и плановый период 2022 и 2023 год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20 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457200" y="-1828800"/>
            <a:ext cx="822960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539640" y="0"/>
          <a:ext cx="8050320" cy="6883560"/>
        </p:xfrm>
        <a:graphic>
          <a:graphicData uri="http://schemas.openxmlformats.org/drawingml/2006/table">
            <a:tbl>
              <a:tblPr/>
              <a:tblGrid>
                <a:gridCol w="1136880"/>
                <a:gridCol w="3047760"/>
                <a:gridCol w="1446480"/>
                <a:gridCol w="1203120"/>
                <a:gridCol w="1216080"/>
              </a:tblGrid>
              <a:tr h="63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45,32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83,2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82,818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сударственные расх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й фон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,5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ц. безопасность и правоохран.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ЖК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669,2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2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2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1,678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44,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12,033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682560" y="-92160"/>
            <a:ext cx="8229600" cy="155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642960" y="1357200"/>
          <a:ext cx="8053200" cy="4532400"/>
        </p:xfrm>
        <a:graphic>
          <a:graphicData uri="http://schemas.openxmlformats.org/drawingml/2006/table">
            <a:tbl>
              <a:tblPr/>
              <a:tblGrid>
                <a:gridCol w="784080"/>
                <a:gridCol w="858960"/>
                <a:gridCol w="3214800"/>
                <a:gridCol w="1071360"/>
                <a:gridCol w="1071720"/>
                <a:gridCol w="105228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11,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06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 высшего должностного лица субъекта Российской Федерации и муниципального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5,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5,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5,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1308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онирование Правительства РФ, высших исполнительных органов государственной власти субъектов РФ, местных администра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6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6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56,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  <a:tr h="49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.общегосуд-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5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539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457200" y="1882800"/>
          <a:ext cx="8229600" cy="2363760"/>
        </p:xfrm>
        <a:graphic>
          <a:graphicData uri="http://schemas.openxmlformats.org/drawingml/2006/table">
            <a:tbl>
              <a:tblPr/>
              <a:tblGrid>
                <a:gridCol w="971640"/>
                <a:gridCol w="1285920"/>
                <a:gridCol w="2643120"/>
                <a:gridCol w="1000080"/>
                <a:gridCol w="1143000"/>
                <a:gridCol w="1185840"/>
              </a:tblGrid>
              <a:tr h="708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обилизация и вневойсков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9aa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457200" y="500040"/>
            <a:ext cx="822960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500040" y="1714680"/>
          <a:ext cx="8269200" cy="4251240"/>
        </p:xfrm>
        <a:graphic>
          <a:graphicData uri="http://schemas.openxmlformats.org/drawingml/2006/table">
            <a:tbl>
              <a:tblPr/>
              <a:tblGrid>
                <a:gridCol w="792360"/>
                <a:gridCol w="1068120"/>
                <a:gridCol w="3417840"/>
                <a:gridCol w="997200"/>
                <a:gridCol w="1060200"/>
                <a:gridCol w="933480"/>
              </a:tblGrid>
              <a:tr h="55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90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Устойчив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Противопожарная защита населённых пунктов Междуреченского сельского поселения Заволжского муниципального райо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2760" y="171360"/>
            <a:ext cx="8474040" cy="171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457200" y="1882800"/>
          <a:ext cx="8229600" cy="3597120"/>
        </p:xfrm>
        <a:graphic>
          <a:graphicData uri="http://schemas.openxmlformats.org/drawingml/2006/table">
            <a:tbl>
              <a:tblPr/>
              <a:tblGrid>
                <a:gridCol w="1371600"/>
                <a:gridCol w="814320"/>
                <a:gridCol w="2143080"/>
                <a:gridCol w="1157400"/>
                <a:gridCol w="1371600"/>
                <a:gridCol w="1371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2224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рожное хозяйство (дорожные фонд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2,6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250920" y="1285920"/>
          <a:ext cx="8580240" cy="5773680"/>
        </p:xfrm>
        <a:graphic>
          <a:graphicData uri="http://schemas.openxmlformats.org/drawingml/2006/table">
            <a:tbl>
              <a:tblPr/>
              <a:tblGrid>
                <a:gridCol w="834840"/>
                <a:gridCol w="1128960"/>
                <a:gridCol w="3754440"/>
                <a:gridCol w="888840"/>
                <a:gridCol w="1071720"/>
                <a:gridCol w="90144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69,2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2,2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2,2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59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Устойчив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Комплексн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программа «Благоустройство Междуреченского сельского поселения Заволжского муниципального района.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50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Энергосбережения и повышения энергетической эффективности в Междуреченском сельском поселении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Использование и охраны земель на территории Междуреченского сельского поселения на 2020-2022 год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4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мероприятия в области Жилищно-коммунального хозяйства(управление МК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3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2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2,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5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395280" y="1989000"/>
          <a:ext cx="8319960" cy="3603600"/>
        </p:xfrm>
        <a:graphic>
          <a:graphicData uri="http://schemas.openxmlformats.org/drawingml/2006/table">
            <a:tbl>
              <a:tblPr/>
              <a:tblGrid>
                <a:gridCol w="800280"/>
                <a:gridCol w="1144440"/>
                <a:gridCol w="3379680"/>
                <a:gridCol w="1084320"/>
                <a:gridCol w="992160"/>
                <a:gridCol w="919080"/>
              </a:tblGrid>
              <a:tr h="79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41,678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44,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12,033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69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униципальная программа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34,3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72,4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73,7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ежбюджетные трансферты на организацию библиотечного обслуживания насе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7,376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1,9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8,259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457200" y="420840"/>
            <a:ext cx="82296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457200" y="1600200"/>
          <a:ext cx="8435880" cy="3909960"/>
        </p:xfrm>
        <a:graphic>
          <a:graphicData uri="http://schemas.openxmlformats.org/drawingml/2006/table">
            <a:tbl>
              <a:tblPr/>
              <a:tblGrid>
                <a:gridCol w="730080"/>
                <a:gridCol w="1008360"/>
                <a:gridCol w="3816360"/>
                <a:gridCol w="936360"/>
                <a:gridCol w="909720"/>
                <a:gridCol w="103500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дпрограмма «Пенсионное обеспечение лиц, замещавших муниципальные должности и должности муниципальной службы в органах местного самоуправления Междуреченского сельского поселения 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3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469800" y="768240"/>
            <a:ext cx="8229600" cy="1573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2420640"/>
            <a:ext cx="8686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цели и задачи реализуемой политики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 определенной сфер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пособы их достижения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ъемы используемых финансовых ресур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26960" y="-146160"/>
            <a:ext cx="8229600" cy="164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357120" y="714240"/>
          <a:ext cx="8291520" cy="6185160"/>
        </p:xfrm>
        <a:graphic>
          <a:graphicData uri="http://schemas.openxmlformats.org/drawingml/2006/table">
            <a:tbl>
              <a:tblPr/>
              <a:tblGrid>
                <a:gridCol w="1090800"/>
                <a:gridCol w="4124160"/>
                <a:gridCol w="988920"/>
                <a:gridCol w="1008360"/>
                <a:gridCol w="1079280"/>
              </a:tblGrid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Совершенствование местного самоуправления Междуреченского сельского поселения и развитие муниципальной службы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09,2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09,2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09,2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"Организация культурно-массовых мероприятий  на территории  Междуреченского сельского поселени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стойчивое развитие сельских территорий Междуреченского сельского поселения Заволжского муниципального района на 2021-2023 го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5,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1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униципальная программа «Профилактика правонарушений, борьба с преступностью и обеспечение безопасности граждан Междуреченского сельского поселения Заволжского муниципального района»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я и повышения энергетической эффективности в Междуреченском сельском поселени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5c8fe9"/>
              </a:solidFill>
              <a:latin typeface="Century Gothic"/>
            </a:endParaRPr>
          </a:p>
        </p:txBody>
      </p:sp>
      <p:pic>
        <p:nvPicPr>
          <p:cNvPr id="304" name="Содержимое 3" descr="Рисунок1.pn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571680" y="7142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Междуреченское Сельско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ahoma"/>
              </a:rPr>
              <a:t>посел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68360" y="333360"/>
          <a:ext cx="8207280" cy="6259680"/>
        </p:xfrm>
        <a:graphic>
          <a:graphicData uri="http://schemas.openxmlformats.org/drawingml/2006/table">
            <a:tbl>
              <a:tblPr/>
              <a:tblGrid>
                <a:gridCol w="1008000"/>
                <a:gridCol w="4199040"/>
                <a:gridCol w="912600"/>
                <a:gridCol w="1079640"/>
                <a:gridCol w="1008000"/>
              </a:tblGrid>
              <a:tr h="775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й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79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Муниципальная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а "Управление муниципальным имуществом Междуреченского сельского поселения Заволжского муниципального район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го поселения 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,5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"Развитие культуры на территории Междуреченского сельского поселения Заволжского муниципального района 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634,3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372,4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873,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ая программа Междуреченского сельского поселения «Формирование современной городской среды на 2018-2022 го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  <a:tr h="757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74,5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54,7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88,0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17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5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28760" y="2786040"/>
          <a:ext cx="8229600" cy="1736640"/>
        </p:xfrm>
        <a:graphic>
          <a:graphicData uri="http://schemas.openxmlformats.org/drawingml/2006/table">
            <a:tbl>
              <a:tblPr/>
              <a:tblGrid>
                <a:gridCol w="4259160"/>
                <a:gridCol w="1295280"/>
                <a:gridCol w="1368360"/>
                <a:gridCol w="13068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2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(Проведение праздников и приобретение сувениров, подарков, призов и т.д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7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2428"/>
                          </a:solidFill>
                          <a:latin typeface="Times New Roman"/>
                        </a:rPr>
                        <a:t>475,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2428"/>
                          </a:solidFill>
                          <a:latin typeface="Times New Roman"/>
                        </a:rPr>
                        <a:t>361,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72428"/>
                          </a:solidFill>
                          <a:latin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236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714240" y="2786040"/>
          <a:ext cx="7972560" cy="1554120"/>
        </p:xfrm>
        <a:graphic>
          <a:graphicData uri="http://schemas.openxmlformats.org/drawingml/2006/table">
            <a:tbl>
              <a:tblPr/>
              <a:tblGrid>
                <a:gridCol w="3500640"/>
                <a:gridCol w="1428840"/>
                <a:gridCol w="1428480"/>
                <a:gridCol w="16146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сходы на реализацию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На мероприятия по реализации программ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4,3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2,4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3,7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229600" cy="16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85840" y="2571840"/>
          <a:ext cx="8572320" cy="2925720"/>
        </p:xfrm>
        <a:graphic>
          <a:graphicData uri="http://schemas.openxmlformats.org/drawingml/2006/table">
            <a:tbl>
              <a:tblPr/>
              <a:tblGrid>
                <a:gridCol w="3643200"/>
                <a:gridCol w="1714680"/>
                <a:gridCol w="1643040"/>
                <a:gridCol w="15714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(уличное освещение и наказы избирателей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9,2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9,2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9,2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19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229600" cy="20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405640" cy="206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539640" y="2190600"/>
          <a:ext cx="8105760" cy="1919520"/>
        </p:xfrm>
        <a:graphic>
          <a:graphicData uri="http://schemas.openxmlformats.org/drawingml/2006/table">
            <a:tbl>
              <a:tblPr/>
              <a:tblGrid>
                <a:gridCol w="3408480"/>
                <a:gridCol w="1492200"/>
                <a:gridCol w="1631880"/>
                <a:gridCol w="1573200"/>
              </a:tblGrid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ой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руб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 мероприятия по реализации пр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"/>
          <p:cNvSpPr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это план доходов и расходов на определенный период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 для граждан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проект закона о бюджете в доступной и понятной форм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юджетный процесс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это ежегодное формирование и исполнение бюдж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960120" y="1936800"/>
            <a:ext cx="7137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ОСНОВНЫЕ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ХАРАКТЕРИСТИ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68360" y="11970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безвозмезд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безвозвратные поступления денежных средств в бюдж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сходы бюдже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выплачиваем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бюджета денежные сред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6" descr=""/>
          <p:cNvPicPr/>
          <p:nvPr/>
        </p:nvPicPr>
        <p:blipFill>
          <a:blip r:embed="rId1"/>
          <a:stretch/>
        </p:blipFill>
        <p:spPr>
          <a:xfrm>
            <a:off x="360360" y="189000"/>
            <a:ext cx="8412120" cy="12128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0" y="1483920"/>
            <a:ext cx="42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6 = -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расходы больше до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расходов над доходами принимается решение об источниках покрытия дефицита (например, использовать имеющиеся накопления, остатки, взять в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7960" y="1599840"/>
            <a:ext cx="4244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 – 4 = 1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доходы больше расходов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ревышении доходов над расходами принимается решение, как их использовать (например, накапливать резервы, остатки, погашать долг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Organization Chart 16"/>
          <p:cNvGrpSpPr/>
          <p:nvPr/>
        </p:nvGrpSpPr>
        <p:grpSpPr>
          <a:xfrm>
            <a:off x="395280" y="692280"/>
            <a:ext cx="8280000" cy="4854600"/>
            <a:chOff x="395280" y="692280"/>
            <a:chExt cx="8280000" cy="4854600"/>
          </a:xfrm>
        </p:grpSpPr>
        <p:cxnSp>
          <p:nvCxnSpPr>
            <p:cNvPr id="313" name="_s1028"/>
            <p:cNvCxnSpPr>
              <a:stCxn id="314" idx="0"/>
              <a:endCxn id="315" idx="2"/>
            </p:cNvCxnSpPr>
            <p:nvPr/>
          </p:nvCxnSpPr>
          <p:spPr>
            <a:xfrm flipV="1" rot="16200000">
              <a:off x="5498280" y="166968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6" name="_s1029"/>
            <p:cNvCxnSpPr>
              <a:stCxn id="317" idx="0"/>
              <a:endCxn id="315" idx="2"/>
            </p:cNvCxnSpPr>
            <p:nvPr/>
          </p:nvCxnSpPr>
          <p:spPr>
            <a:xfrm flipV="1">
              <a:off x="4534920" y="2633400"/>
              <a:ext cx="3960" cy="9716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18" name="_s1030"/>
            <p:cNvCxnSpPr>
              <a:stCxn id="319" idx="0"/>
              <a:endCxn id="315" idx="2"/>
            </p:cNvCxnSpPr>
            <p:nvPr/>
          </p:nvCxnSpPr>
          <p:spPr>
            <a:xfrm flipH="1" flipV="1" rot="5400000">
              <a:off x="2600640" y="1670040"/>
              <a:ext cx="971640" cy="289872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15" name="_s1031"/>
            <p:cNvSpPr/>
            <p:nvPr/>
          </p:nvSpPr>
          <p:spPr>
            <a:xfrm>
              <a:off x="3293280" y="69228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800000"/>
                  </a:solidFill>
                  <a:latin typeface="Times New Roman"/>
                </a:rPr>
                <a:t>бюджета</a:t>
              </a:r>
              <a:endParaRPr b="0" lang="en-US" sz="4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_s1032"/>
            <p:cNvSpPr/>
            <p:nvPr/>
          </p:nvSpPr>
          <p:spPr>
            <a:xfrm>
              <a:off x="395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_s1033"/>
            <p:cNvSpPr/>
            <p:nvPr/>
          </p:nvSpPr>
          <p:spPr>
            <a:xfrm>
              <a:off x="3293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Неналогов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доход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_s1034"/>
            <p:cNvSpPr/>
            <p:nvPr/>
          </p:nvSpPr>
          <p:spPr>
            <a:xfrm>
              <a:off x="6191280" y="3605040"/>
              <a:ext cx="2484000" cy="194184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Безвозмездны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800000"/>
                  </a:solidFill>
                  <a:latin typeface="Times New Roman"/>
                </a:rPr>
                <a:t>поступления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7" descr=""/>
          <p:cNvPicPr/>
          <p:nvPr/>
        </p:nvPicPr>
        <p:blipFill>
          <a:blip r:embed="rId1"/>
          <a:stretch/>
        </p:blipFill>
        <p:spPr>
          <a:xfrm>
            <a:off x="682560" y="30240"/>
            <a:ext cx="8199360" cy="1822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доходы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кциз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имущество физических ли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лог на землю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диный сельскохозяйственный налог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1:52Z</dcterms:created>
  <dc:creator/>
  <dc:description/>
  <dc:language>en-US</dc:language>
  <cp:lastModifiedBy>Владелец</cp:lastModifiedBy>
  <cp:lastPrinted>2013-11-26T12:28:35Z</cp:lastPrinted>
  <dcterms:modified xsi:type="dcterms:W3CDTF">2020-12-15T10:48:31Z</dcterms:modified>
  <cp:revision>403</cp:revision>
  <dc:subject/>
  <dc:title>БЮДЖЕТ  для  граждан </dc:title>
</cp:coreProperties>
</file>