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655-68CF-43AA-BAB3-10E9B1DB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9EF-7624-44CC-A9E7-DC46FCA1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8CD-4F31-4A86-94B1-29743F68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B12-1F34-4193-B7F7-DAB32A7B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EE76-7BDF-43C1-A127-2457750E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D01E-0E06-40E7-915C-C0B15B7F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1896-E9E2-4B17-8B7D-C35D07E3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2FF8-4318-4FF5-BDEF-D098E674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7EC0-3E2E-4565-A978-EC61F22D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4E05-0812-4018-97FC-6BF77F0A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79D3-8895-4D9B-AB24-BA5B122D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A91-CFE1-41AD-AF40-DDF19004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19C3-221C-4B71-AB2F-11F05EEC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BF13-1A93-477A-A752-172F9E9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01CE-779B-4547-AC80-6670498D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B27C-C01E-412C-9C72-85C8E0FB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02CD-AE19-42FE-95C8-D40942AE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CCC9-1798-4CAE-AABD-BC284A5A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AA5E-6404-4BD2-8F0E-C5F27AA4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2753-8BFF-49EF-9256-FBE5B146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1E4C-F10C-4073-85E7-89422B61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474D-1A7D-4CA4-A1A3-B668B7B4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6B6-5AB6-4851-BC5C-5DD94F73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4AFC-FFE7-464B-B1BD-02015D5F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C418-758D-4444-8622-7D4FD22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A626-6D9B-4685-B33F-516C35B3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CDA13-AAF8-4B3A-8358-626969A1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F82C-C0ED-446A-986A-753D1BD2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B6F2-148F-46E1-9C8E-3072CA56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1FDA-6ED0-46AF-A2D1-486735F0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7778D-3DB8-43EC-9D22-D0D759BC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C2DF-C641-460C-8C2D-3C652008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4594-2635-4FDD-9855-F75DB910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299-3BC9-4B6D-8060-B6F1E190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A0EA7-D659-47CB-AC11-D05B4B62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C435-CBD9-4541-B94B-0304CA62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7FC52-94CB-4CAB-B303-193F88C0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F0158-107E-4EDD-B518-5B6DDDD8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1065-9BD0-46BC-A4DB-C050489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CCC68-0BC1-4B39-9FFD-BDC9BB0C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88FC-6C52-4872-B6AC-5F932362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3814-2E18-4C73-9754-3E3D3F1C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70C29-757B-49F8-B8D8-5C723670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0D494-ABA4-4A91-89EA-9D6A4CF2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ABA-B3C5-4137-8B3B-55BE1517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9EC2-B9C2-4B35-A549-B568B094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A29F4-2299-4381-A727-F397CE1B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FE8A-89BC-4C1B-8036-C87210AC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11AC4-7B4B-409B-8526-F2CDD801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F1FE7-2D30-4FCA-81C3-760FB79E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14F9D-9DEA-484E-9747-0F318C08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B0455-1233-4BE2-9BC0-AED906F2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15031-D014-4F3D-9A7A-B2AAA5B6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6FAD-653A-4CA2-B847-24FC9F61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54B3A-376F-4060-9AD9-DCF1DBD6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0DC-E194-46E4-B643-E58846A4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DD162-E7E3-4985-92BD-56B49B05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FDDF9-6D25-4976-8D5A-6FB1D002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B119C-5394-4BFE-9BAF-226359CC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F7C56-0BBC-4F96-A002-0CBFF436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0FC6-304C-417D-93B6-46BAC95A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9C306-12BE-4B08-9F3A-BCE0C7C6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7A2C1-1663-4438-B853-2FC3E50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B5388-B89F-4814-BFF4-C70B1E30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A8BA1-5B8A-4094-A238-72A71819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EF534-6238-4221-AFC3-5A9D1268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B79-8868-4590-9587-771D15B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28F1A-85CB-47B1-B8F4-30FE7F6C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0A704-AE15-4C6D-9BD0-1BBA14FB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9A91-E41E-4191-849C-6BFD9A17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E0C68-1CAD-4C3F-81E9-D13F8C53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198BA-F337-45C4-8394-E1817C1E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6A5F0-84C8-4879-94F7-9E3D828D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4B54A-4573-4293-9EFA-825FF2B8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AB144-DD45-4CA9-9B28-2A9759A8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910AB-4A8D-4683-BEFC-67D93D77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10F19-B49D-48F9-A64C-698738DF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1E8-1AC7-4DD3-9299-02A206F2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1D85D-9931-40BA-9CA8-AD239B0B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FEA90-F360-4185-ACD8-35070E3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DBD80-9E9D-4D4E-950D-00F38675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C900C-69A2-4A0E-ADF5-0429F072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D47ED-3699-4A3C-A06C-34BD6DCD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BDD-E4E7-40DD-AE5F-0C551DA0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EC00-29C7-4CA9-945E-70CB251117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84DB-ADE0-44A8-8A29-6DC60007B587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5C7F-6932-4D02-87FD-777ADC284D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9538-F6B1-41E3-B9E8-BC8F9F25C8E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7572-F505-46E4-A87F-0E5DCA01F2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9C6B-FAC4-4BD4-B1A8-363391D183B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03FD-A0D9-4021-A036-62FEACA5501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468360" y="189000"/>
            <a:ext cx="8424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ажаемые жители Междуреченского сельского поселен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вами бюджет для граждан, в котором в краткой и доступной форме отражены основные параметры бюджета Междуреченского сельского поселения на 2022 год и плановый период 2023 и 2024 г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е изложены так, чтобы каждый мог понять, на какие цели и в каком объеме направляются бюджетные сре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22 году бюджет состоит из 8 муниципальных программ это 59 % расходов всего бюджет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еемся, что представление бюджета сельского поселения в понятной и доступной форме повысит уровень общественного участия граждан в бюджетном процессе Междуреченского сельского по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Междуреченского сельского по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7200" y="73080"/>
            <a:ext cx="8229600" cy="1834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Доходы от оказания платных услуг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очие неналоговые доход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400960" cy="1530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тации (предоставляются без определения конкретной цели их использ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венции (предоставляются на финансирование переданных полномочий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сидии (предоставляются на условиях долевого софинансир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Organization Chart 4"/>
          <p:cNvGrpSpPr/>
          <p:nvPr/>
        </p:nvGrpSpPr>
        <p:grpSpPr>
          <a:xfrm>
            <a:off x="468360" y="476280"/>
            <a:ext cx="8228880" cy="5681520"/>
            <a:chOff x="468360" y="476280"/>
            <a:chExt cx="8228880" cy="5681520"/>
          </a:xfrm>
        </p:grpSpPr>
        <p:cxnSp>
          <p:nvCxnSpPr>
            <p:cNvPr id="327" name="_s1028"/>
            <p:cNvCxnSpPr>
              <a:stCxn id="328" idx="0"/>
              <a:endCxn id="329" idx="2"/>
            </p:cNvCxnSpPr>
            <p:nvPr/>
          </p:nvCxnSpPr>
          <p:spPr>
            <a:xfrm flipV="1" rot="16200000">
              <a:off x="5614560" y="1716120"/>
              <a:ext cx="1136880" cy="320112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0" name="_s1029"/>
            <p:cNvCxnSpPr>
              <a:stCxn id="331" idx="0"/>
              <a:endCxn id="329" idx="2"/>
            </p:cNvCxnSpPr>
            <p:nvPr/>
          </p:nvCxnSpPr>
          <p:spPr>
            <a:xfrm flipV="1" rot="16200000">
              <a:off x="4547520" y="2783160"/>
              <a:ext cx="1136880" cy="106740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2" name="_s1030"/>
            <p:cNvCxnSpPr>
              <a:stCxn id="333" idx="0"/>
              <a:endCxn id="329" idx="2"/>
            </p:cNvCxnSpPr>
            <p:nvPr/>
          </p:nvCxnSpPr>
          <p:spPr>
            <a:xfrm flipH="1" flipV="1" rot="5400000">
              <a:off x="3480840" y="2783520"/>
              <a:ext cx="1136880" cy="106704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4" name="_s1031"/>
            <p:cNvCxnSpPr>
              <a:stCxn id="335" idx="0"/>
              <a:endCxn id="329" idx="2"/>
            </p:cNvCxnSpPr>
            <p:nvPr/>
          </p:nvCxnSpPr>
          <p:spPr>
            <a:xfrm flipH="1" flipV="1" rot="5400000">
              <a:off x="2413800" y="1716480"/>
              <a:ext cx="1136880" cy="320076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29" name="_s1032"/>
            <p:cNvSpPr/>
            <p:nvPr/>
          </p:nvSpPr>
          <p:spPr>
            <a:xfrm>
              <a:off x="3668400" y="47628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Составлен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проекта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основан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НА 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46836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бюджетном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ослан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езидента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РФ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_s1034"/>
            <p:cNvSpPr/>
            <p:nvPr/>
          </p:nvSpPr>
          <p:spPr>
            <a:xfrm>
              <a:off x="260172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огноз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социально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экономического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развит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_s1035"/>
            <p:cNvSpPr/>
            <p:nvPr/>
          </p:nvSpPr>
          <p:spPr>
            <a:xfrm>
              <a:off x="473544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основны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аправления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бюджетн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и налоговой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олитик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_s1036"/>
            <p:cNvSpPr/>
            <p:nvPr/>
          </p:nvSpPr>
          <p:spPr>
            <a:xfrm>
              <a:off x="686880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муниципальны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ограмма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828720" y="517680"/>
            <a:ext cx="8029440" cy="20923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ение собираемости платежей в бюдже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тимизация и повышение эффективности бюджетных расходо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ффективное управление муниципальной собственность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ка и принятие муниципальных програм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мизация бюджетного дефицит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229600" cy="186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395280" y="1989000"/>
          <a:ext cx="8137440" cy="4059360"/>
        </p:xfrm>
        <a:graphic>
          <a:graphicData uri="http://schemas.openxmlformats.org/drawingml/2006/table">
            <a:tbl>
              <a:tblPr/>
              <a:tblGrid>
                <a:gridCol w="725400"/>
                <a:gridCol w="3832200"/>
                <a:gridCol w="1265400"/>
                <a:gridCol w="1265040"/>
                <a:gridCol w="1049400"/>
              </a:tblGrid>
              <a:tr h="62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99,926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90,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574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78,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86,8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04,4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21,036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03,7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70,4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92,37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90,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574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ФИЦИТ (-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92,44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639720" y="-122400"/>
            <a:ext cx="8120160" cy="14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571680" y="1214280"/>
          <a:ext cx="8218440" cy="4572000"/>
        </p:xfrm>
        <a:graphic>
          <a:graphicData uri="http://schemas.openxmlformats.org/drawingml/2006/table">
            <a:tbl>
              <a:tblPr/>
              <a:tblGrid>
                <a:gridCol w="4319280"/>
                <a:gridCol w="927360"/>
                <a:gridCol w="1073160"/>
                <a:gridCol w="944280"/>
                <a:gridCol w="954360"/>
              </a:tblGrid>
              <a:tr h="100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орматив зачисления в местный бюдж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.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723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733,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750,7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ДФ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6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7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78,7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имущество  физических 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3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3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36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.Не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5,7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3,6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3,6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ходы от предоставления платных усл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8,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6,6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6,6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1000080" y="476280"/>
            <a:ext cx="8143920" cy="1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539640" y="492120"/>
          <a:ext cx="8280360" cy="3822840"/>
        </p:xfrm>
        <a:graphic>
          <a:graphicData uri="http://schemas.openxmlformats.org/drawingml/2006/table">
            <a:tbl>
              <a:tblPr/>
              <a:tblGrid>
                <a:gridCol w="5032440"/>
                <a:gridCol w="1071720"/>
                <a:gridCol w="1093680"/>
                <a:gridCol w="1082520"/>
              </a:tblGrid>
              <a:tr h="59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.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7721,036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6703,7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Century Gothic"/>
                        </a:rPr>
                        <a:t>6670,4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т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141,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147,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147,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93,7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ве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95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98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Субвенции бюджетам на осуществление первичного воинского учета на территориях, где отсутствуют военные комиссари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95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98,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  ДОХОДОВ 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9599,92603</a:t>
                      </a:r>
                      <a:r>
                        <a:rPr b="0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590,6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574,8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628640"/>
          </a:xfrm>
          <a:prstGeom prst="rect">
            <a:avLst/>
          </a:prstGeom>
          <a:ln w="0">
            <a:noFill/>
          </a:ln>
        </p:spPr>
      </p:pic>
      <p:pic>
        <p:nvPicPr>
          <p:cNvPr id="345" name="Таблица 3" descr=""/>
          <p:cNvPicPr/>
          <p:nvPr/>
        </p:nvPicPr>
        <p:blipFill>
          <a:blip r:embed="rId2"/>
          <a:stretch/>
        </p:blipFill>
        <p:spPr>
          <a:xfrm>
            <a:off x="647640" y="1598760"/>
            <a:ext cx="81136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9720"/>
          </a:xfrm>
          <a:prstGeom prst="rect">
            <a:avLst/>
          </a:prstGeom>
          <a:ln w="0">
            <a:noFill/>
          </a:ln>
        </p:spPr>
      </p:pic>
      <p:pic>
        <p:nvPicPr>
          <p:cNvPr id="347" name="Объект 4" descr=""/>
          <p:cNvPicPr/>
          <p:nvPr/>
        </p:nvPicPr>
        <p:blipFill>
          <a:blip r:embed="rId2"/>
          <a:stretch/>
        </p:blipFill>
        <p:spPr>
          <a:xfrm>
            <a:off x="717480" y="1967040"/>
            <a:ext cx="8043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9720"/>
          </a:xfrm>
          <a:prstGeom prst="rect">
            <a:avLst/>
          </a:prstGeom>
          <a:ln w="0">
            <a:noFill/>
          </a:ln>
        </p:spPr>
      </p:pic>
      <p:pic>
        <p:nvPicPr>
          <p:cNvPr id="349" name="Объект 3" descr=""/>
          <p:cNvPicPr/>
          <p:nvPr/>
        </p:nvPicPr>
        <p:blipFill>
          <a:blip r:embed="rId2"/>
          <a:stretch/>
        </p:blipFill>
        <p:spPr>
          <a:xfrm>
            <a:off x="914400" y="1968480"/>
            <a:ext cx="74772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642960" y="357120"/>
            <a:ext cx="77724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БЮДЖЕТА</a:t>
            </a:r>
            <a:br>
              <a:rPr sz="4800"/>
            </a:br>
            <a:r>
              <a:rPr b="1" lang="ru-RU" sz="4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для</a:t>
            </a:r>
            <a:r>
              <a:rPr b="1" lang="ru-RU" sz="8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гражда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dbf5f9"/>
                </a:solidFill>
                <a:latin typeface="Times New Roman"/>
              </a:rPr>
              <a:t>к бюджету Междуреченского сельского поселения на 2022 год и плановый период 2023 и 2024 год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21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457200" y="-1828800"/>
            <a:ext cx="822960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539640" y="0"/>
          <a:ext cx="8050320" cy="6883560"/>
        </p:xfrm>
        <a:graphic>
          <a:graphicData uri="http://schemas.openxmlformats.org/drawingml/2006/table">
            <a:tbl>
              <a:tblPr/>
              <a:tblGrid>
                <a:gridCol w="1136880"/>
                <a:gridCol w="3047760"/>
                <a:gridCol w="1446480"/>
                <a:gridCol w="1203120"/>
                <a:gridCol w="1216080"/>
              </a:tblGrid>
              <a:tr h="63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,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92,37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90,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74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государстве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1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1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ервный фо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. безопасность и правоохран.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1,9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1,9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1,9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К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39,9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96,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51,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80,255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68,6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32,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682560" y="-92160"/>
            <a:ext cx="8229600" cy="15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642960" y="1357200"/>
          <a:ext cx="8053200" cy="4532400"/>
        </p:xfrm>
        <a:graphic>
          <a:graphicData uri="http://schemas.openxmlformats.org/drawingml/2006/table">
            <a:tbl>
              <a:tblPr/>
              <a:tblGrid>
                <a:gridCol w="784080"/>
                <a:gridCol w="858960"/>
                <a:gridCol w="3214800"/>
                <a:gridCol w="1071360"/>
                <a:gridCol w="1071720"/>
                <a:gridCol w="105228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1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1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06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 высшего должностного лица субъекта Российской Федерации и муниципального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5,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5,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5,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30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Правительства РФ, высших исполнительных органов государственной власти субъектов РФ, местных администр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6,1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56,1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56,1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49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.общегосуд-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457200" y="1882800"/>
          <a:ext cx="8229600" cy="2363760"/>
        </p:xfrm>
        <a:graphic>
          <a:graphicData uri="http://schemas.openxmlformats.org/drawingml/2006/table">
            <a:tbl>
              <a:tblPr/>
              <a:tblGrid>
                <a:gridCol w="971640"/>
                <a:gridCol w="1285920"/>
                <a:gridCol w="2643120"/>
                <a:gridCol w="1000080"/>
                <a:gridCol w="1143000"/>
                <a:gridCol w="1185840"/>
              </a:tblGrid>
              <a:tr h="708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обилизация и вневойсков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7200" y="500040"/>
            <a:ext cx="8229600" cy="151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500040" y="1714680"/>
          <a:ext cx="8269200" cy="4251240"/>
        </p:xfrm>
        <a:graphic>
          <a:graphicData uri="http://schemas.openxmlformats.org/drawingml/2006/table">
            <a:tbl>
              <a:tblPr/>
              <a:tblGrid>
                <a:gridCol w="792360"/>
                <a:gridCol w="1068120"/>
                <a:gridCol w="3417840"/>
                <a:gridCol w="997200"/>
                <a:gridCol w="1060200"/>
                <a:gridCol w="93348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90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Устойчивое развитие сельских территорий Междуреченского сельского поселения Заволжского муниципального района на 2021-2023 годы»</a:t>
                      </a: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«Противопожарная защита населённых пунктов Междуреченского сельского поселения Заволжского муниципального район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212760" y="171360"/>
            <a:ext cx="8474040" cy="171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457200" y="1882800"/>
          <a:ext cx="8229600" cy="3597120"/>
        </p:xfrm>
        <a:graphic>
          <a:graphicData uri="http://schemas.openxmlformats.org/drawingml/2006/table">
            <a:tbl>
              <a:tblPr/>
              <a:tblGrid>
                <a:gridCol w="1371600"/>
                <a:gridCol w="814320"/>
                <a:gridCol w="2143080"/>
                <a:gridCol w="1157400"/>
                <a:gridCol w="1371600"/>
                <a:gridCol w="13716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1,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1,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1,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2224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рожное хозяйство (дорожные фонд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1,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1,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1,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3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250920" y="1285920"/>
          <a:ext cx="8580240" cy="5773680"/>
        </p:xfrm>
        <a:graphic>
          <a:graphicData uri="http://schemas.openxmlformats.org/drawingml/2006/table">
            <a:tbl>
              <a:tblPr/>
              <a:tblGrid>
                <a:gridCol w="834840"/>
                <a:gridCol w="1128960"/>
                <a:gridCol w="3754440"/>
                <a:gridCol w="888840"/>
                <a:gridCol w="1071720"/>
                <a:gridCol w="90144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39,9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96,8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51,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59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Устойчивое развитие сельских территорий Междуреченского сельского поселения Заволжского муниципального района на 2021-2023 годы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«Комплексное развитие сельских территорий Междуреченского сельского поселения Заволжского муниципального района на 2021-2023 годы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8,7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4,5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,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50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программа «Благоустройство Междуреченского сельского поселения Заволжского муниципального района.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8,7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4,5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50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Энергосбережения и повышения энергетической эффективности в Междуреченском сельском поселении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,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,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Использование и охраны земель на территории Междуреченского сельского поселения на 2020-2022 год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мероприятия в области Жилищно-коммунального хозяйства(управление М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,2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2,2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19,0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5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395280" y="1989000"/>
          <a:ext cx="8319960" cy="3603600"/>
        </p:xfrm>
        <a:graphic>
          <a:graphicData uri="http://schemas.openxmlformats.org/drawingml/2006/table">
            <a:tbl>
              <a:tblPr/>
              <a:tblGrid>
                <a:gridCol w="800280"/>
                <a:gridCol w="1144440"/>
                <a:gridCol w="3379680"/>
                <a:gridCol w="1084320"/>
                <a:gridCol w="992160"/>
                <a:gridCol w="91908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80,255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68,6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32,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,481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73,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73,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жбюджетные трансферты на организацию библиотечного обслуживания насе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3,774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5,6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9,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57200" y="420840"/>
            <a:ext cx="8229600" cy="13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457200" y="1600200"/>
          <a:ext cx="8435880" cy="3909960"/>
        </p:xfrm>
        <a:graphic>
          <a:graphicData uri="http://schemas.openxmlformats.org/drawingml/2006/table">
            <a:tbl>
              <a:tblPr/>
              <a:tblGrid>
                <a:gridCol w="730080"/>
                <a:gridCol w="1008360"/>
                <a:gridCol w="3816360"/>
                <a:gridCol w="936360"/>
                <a:gridCol w="909720"/>
                <a:gridCol w="1035000"/>
              </a:tblGrid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«Пенсионное обеспечение лиц, замещавших муниципальные должности и должности муниципальной службы в органах местного самоуправления Междуреченского сельского поселения 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469800" y="768240"/>
            <a:ext cx="8229600" cy="1573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2420640"/>
            <a:ext cx="86868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цели и задачи реализуемой политики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 определенной сфер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пособы их достижения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емы используемых финансовых ресурс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26960" y="-146160"/>
            <a:ext cx="8229600" cy="164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357120" y="714240"/>
          <a:ext cx="8291520" cy="6185160"/>
        </p:xfrm>
        <a:graphic>
          <a:graphicData uri="http://schemas.openxmlformats.org/drawingml/2006/table">
            <a:tbl>
              <a:tblPr/>
              <a:tblGrid>
                <a:gridCol w="1090800"/>
                <a:gridCol w="4124160"/>
                <a:gridCol w="988920"/>
                <a:gridCol w="1008360"/>
                <a:gridCol w="1079280"/>
              </a:tblGrid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Совершенствование местного самоуправления Междуреченского сельского поселения и развитие муниципальной служб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66,9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16,9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16,9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Организация культурно-массовых мероприятий  на территории 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стойчивое развитие сельских территорий Междуреченского сельского поселения Заволжского муниципального района на 2021-2023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0,2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3,7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Профилактика правонарушений, борьба с преступностью и обеспечение безопасности граждан Междуреченского сельского поселения Заволжского муниципального района»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я и повышения энергетической эффективности в Междуреченском сельском поселен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,3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,3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pic>
        <p:nvPicPr>
          <p:cNvPr id="304" name="Содержимое 3" descr="Рисунок1.pn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71680" y="71424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Междуреченское Сельско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посе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68360" y="333360"/>
          <a:ext cx="8207280" cy="6259680"/>
        </p:xfrm>
        <a:graphic>
          <a:graphicData uri="http://schemas.openxmlformats.org/drawingml/2006/table">
            <a:tbl>
              <a:tblPr/>
              <a:tblGrid>
                <a:gridCol w="1008000"/>
                <a:gridCol w="4199040"/>
                <a:gridCol w="912600"/>
                <a:gridCol w="1079640"/>
                <a:gridCol w="1008000"/>
              </a:tblGrid>
              <a:tr h="77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794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униципальная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а "Управление муниципальным имуществом Междуреченского сельского поселения Заволжского муниципального район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ого поселения "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ниципальная программа «Использование и охрана земель на территории Междуреченского сельского поселения  на 2020-2022 год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"Развитие культуры на территории Междуреченского сельского поселения Заволжского муниципального района "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006,481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373,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873,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5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 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54,13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26,4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27,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5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428760" y="2786040"/>
          <a:ext cx="8229600" cy="1736640"/>
        </p:xfrm>
        <a:graphic>
          <a:graphicData uri="http://schemas.openxmlformats.org/drawingml/2006/table">
            <a:tbl>
              <a:tblPr/>
              <a:tblGrid>
                <a:gridCol w="4259160"/>
                <a:gridCol w="1295280"/>
                <a:gridCol w="1368360"/>
                <a:gridCol w="13068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2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(Проведение праздников и приобретение сувениров, подарков, призов и т.д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27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786040"/>
          <a:ext cx="7972560" cy="1554120"/>
        </p:xfrm>
        <a:graphic>
          <a:graphicData uri="http://schemas.openxmlformats.org/drawingml/2006/table">
            <a:tbl>
              <a:tblPr/>
              <a:tblGrid>
                <a:gridCol w="3500640"/>
                <a:gridCol w="1428840"/>
                <a:gridCol w="1428480"/>
                <a:gridCol w="16146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сходы на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На мероприятия по реализации программ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2428"/>
                          </a:solidFill>
                          <a:latin typeface="Times New Roman"/>
                        </a:rPr>
                        <a:t>420,2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2428"/>
                          </a:solidFill>
                          <a:latin typeface="Times New Roman"/>
                        </a:rPr>
                        <a:t>463,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2428"/>
                          </a:solidFill>
                          <a:latin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236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714240" y="2786040"/>
          <a:ext cx="7972560" cy="1554120"/>
        </p:xfrm>
        <a:graphic>
          <a:graphicData uri="http://schemas.openxmlformats.org/drawingml/2006/table">
            <a:tbl>
              <a:tblPr/>
              <a:tblGrid>
                <a:gridCol w="3500640"/>
                <a:gridCol w="1428840"/>
                <a:gridCol w="1428480"/>
                <a:gridCol w="16146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сходы на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На мероприятия по реализации программ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,481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3,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3,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229600" cy="162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285840" y="2571840"/>
          <a:ext cx="8572320" cy="2925720"/>
        </p:xfrm>
        <a:graphic>
          <a:graphicData uri="http://schemas.openxmlformats.org/drawingml/2006/table">
            <a:tbl>
              <a:tblPr/>
              <a:tblGrid>
                <a:gridCol w="3643200"/>
                <a:gridCol w="1714680"/>
                <a:gridCol w="1643040"/>
                <a:gridCol w="15714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(уличное освещение и наказы избирателе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6,9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16,9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16,9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360360" y="0"/>
            <a:ext cx="8229600" cy="199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360360" y="0"/>
            <a:ext cx="8229600" cy="20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2,3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2,3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360360" y="0"/>
            <a:ext cx="8362800" cy="20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457200" y="1882800"/>
          <a:ext cx="8229600" cy="2286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это план доходов и расходов на определенный период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 для граждан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проект закона о бюджете в доступной и понятной форм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ный процесс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ежегодное формирование и исполнение бюдж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960120" y="1936800"/>
            <a:ext cx="7137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СНОВНЫЕ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ХАРАКТЕРИСТИ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БЮДЖЕ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46836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безвозмезд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безвозвратные поступления денежных средств в бюдж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с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выплачиваем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бюджета денеж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6" descr=""/>
          <p:cNvPicPr/>
          <p:nvPr/>
        </p:nvPicPr>
        <p:blipFill>
          <a:blip r:embed="rId1"/>
          <a:stretch/>
        </p:blipFill>
        <p:spPr>
          <a:xfrm>
            <a:off x="360360" y="189000"/>
            <a:ext cx="8412120" cy="12128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0" y="1483920"/>
            <a:ext cx="42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6 = -1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сходы больше до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расходов над доходами принимается решение об источниках покрытия дефицита (например, использовать имеющиеся накопления, остатки, взять в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7960" y="1599840"/>
            <a:ext cx="424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4 = 1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оходы больше рас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доходов над расходами принимается решение, как их использовать (например, накапливать резервы, остатки, погашать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Organization Chart 16"/>
          <p:cNvGrpSpPr/>
          <p:nvPr/>
        </p:nvGrpSpPr>
        <p:grpSpPr>
          <a:xfrm>
            <a:off x="395280" y="692280"/>
            <a:ext cx="8280000" cy="4854600"/>
            <a:chOff x="395280" y="692280"/>
            <a:chExt cx="8280000" cy="4854600"/>
          </a:xfrm>
        </p:grpSpPr>
        <p:cxnSp>
          <p:nvCxnSpPr>
            <p:cNvPr id="313" name="_s1028"/>
            <p:cNvCxnSpPr>
              <a:stCxn id="314" idx="0"/>
              <a:endCxn id="315" idx="2"/>
            </p:cNvCxnSpPr>
            <p:nvPr/>
          </p:nvCxnSpPr>
          <p:spPr>
            <a:xfrm flipV="1" rot="16200000">
              <a:off x="5498280" y="166968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6" name="_s1029"/>
            <p:cNvCxnSpPr>
              <a:stCxn id="317" idx="0"/>
              <a:endCxn id="315" idx="2"/>
            </p:cNvCxnSpPr>
            <p:nvPr/>
          </p:nvCxnSpPr>
          <p:spPr>
            <a:xfrm flipV="1">
              <a:off x="4534920" y="2633400"/>
              <a:ext cx="3960" cy="971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8" name="_s1030"/>
            <p:cNvCxnSpPr>
              <a:stCxn id="319" idx="0"/>
              <a:endCxn id="315" idx="2"/>
            </p:cNvCxnSpPr>
            <p:nvPr/>
          </p:nvCxnSpPr>
          <p:spPr>
            <a:xfrm flipH="1" flipV="1" rot="5400000">
              <a:off x="2600640" y="167004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5" name="_s1031"/>
            <p:cNvSpPr/>
            <p:nvPr/>
          </p:nvSpPr>
          <p:spPr>
            <a:xfrm>
              <a:off x="3293280" y="69228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_s1032"/>
            <p:cNvSpPr/>
            <p:nvPr/>
          </p:nvSpPr>
          <p:spPr>
            <a:xfrm>
              <a:off x="395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_s1033"/>
            <p:cNvSpPr/>
            <p:nvPr/>
          </p:nvSpPr>
          <p:spPr>
            <a:xfrm>
              <a:off x="3293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е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_s1034"/>
            <p:cNvSpPr/>
            <p:nvPr/>
          </p:nvSpPr>
          <p:spPr>
            <a:xfrm>
              <a:off x="6191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Безвозмездн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поступлен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7" descr=""/>
          <p:cNvPicPr/>
          <p:nvPr/>
        </p:nvPicPr>
        <p:blipFill>
          <a:blip r:embed="rId1"/>
          <a:stretch/>
        </p:blipFill>
        <p:spPr>
          <a:xfrm>
            <a:off x="682560" y="30240"/>
            <a:ext cx="8199360" cy="1822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доходы физических ли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кциз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имущество физических ли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земл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диный сельскохозяйственный нало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3:21:52Z</dcterms:created>
  <dc:creator/>
  <dc:description/>
  <dc:language>en-US</dc:language>
  <cp:lastModifiedBy>Владелец</cp:lastModifiedBy>
  <cp:lastPrinted>2013-11-26T12:28:35Z</cp:lastPrinted>
  <dcterms:modified xsi:type="dcterms:W3CDTF">2022-01-12T08:02:04Z</dcterms:modified>
  <cp:revision>438</cp:revision>
  <dc:subject/>
  <dc:title>БЮДЖЕТ  для  граждан </dc:title>
</cp:coreProperties>
</file>