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EE8-8EC1-42C9-BC7A-40E188F8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AB7-9257-487F-BD33-68DF59E1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6AA-114F-4EFF-8864-AC51C318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F36-F127-4225-8633-FE782D42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5A42-C7A0-4962-A5D8-FEE7BA0D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5DE0-7A69-40BF-9376-E3DC288A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98B0-B94E-4AB6-B285-1C9B46C9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BA05-8051-4879-83FF-46FAB1C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123A-C602-4F8A-BFBE-B4C4AC44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933-6514-4A5E-8DD0-317A23F2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5E2A-74AC-420E-ACDA-F05015E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5D9-580E-473A-AC6D-F21FDC0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FC21-9EEE-40E8-851F-E6D80C2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CD2-7C41-41B4-AD4B-BD82845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DD9D-6873-4822-AB0B-981CC0BD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3973-3F36-4AE9-8B66-1F5BF7E9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BE3B-78E8-4960-B2D9-6E0E3A71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B7D8-DBBA-49BA-B794-67C450EE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6FD3-4488-4AAB-82F1-99CFC376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29C3-E1C6-46D5-A544-D86F1C97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A764-0F7E-4105-885D-7135822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4C81-0F7D-46AE-A60F-F548F4E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754-9CBA-4EB4-BE87-A080DC8C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C95B-A37F-4723-98A1-95A539E8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6BCB-99FC-4E4C-B1D0-28B7362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906C-1319-46A0-9089-26476E4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06E2-9A5F-4DBF-B003-484DDD4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6FAF-26CB-4D00-BE0D-DF1AF222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22D7-8A2D-48E3-885D-9BF232C6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5F8E-EA06-4FFC-ACF4-C7D092FA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2CDC-9C07-4B13-A9A1-F016E220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C47C-FB01-4B78-B86A-C4E79E4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BB62-ABF9-4671-9DD0-E1902BBF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5D3-8EA0-4456-881D-4A9E569F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A8423-6F33-455A-A0F5-D8137EED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0E82-FCEA-446F-BD91-AEF484C1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639A-A7A3-4609-A1CC-D6AD79D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BD25-53FA-4AF6-ABAD-51EFF053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393F-DFE5-4AEA-A130-83CC9A4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5E4F-86B5-4BB3-AF6D-446FA50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9EAF-F850-4A58-B56C-42ABD3B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6EFD-87D9-43B4-B61C-1FB9C3FB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A1C0-9305-43E9-932B-0FFA5951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8003-5E34-4664-914E-A37F58F6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C7F-A344-43E2-8971-70BCC36E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D99A-FCA8-4323-93F9-0B19579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E2BF3-629C-434D-8282-E5C5CC1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827D-F912-45FA-9FC7-3982051A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C32B-86F1-4D6A-9A51-71635E4C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E76A-98F4-4FB9-BE6A-119BE13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6129-313E-4864-9F7F-AA4644B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0D7F-8B08-40D7-AEFA-3D58AF2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F4C17-AF53-443B-8832-23F4E99B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7041-46B5-4090-89A3-2769E1C0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893B-9B32-4ACB-8C60-443BE25B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588-EFE7-470A-B4CD-4443D17C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7CC5-2B91-4D8E-ABA9-74868F3C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5FAB8-6F3B-43D9-9B2A-284BFC95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A7BE-4201-480C-BCE9-F691A8D6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9A80-CFF7-4FFF-AAAD-245F33F5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009EE-E98F-4118-8C34-97B657D5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10EF-6DE2-47A3-AAF8-02A59C9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CFE8-2BD4-4FE2-9F47-E00464DA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9BBB6-49F9-4EDB-A208-06BED225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AAD81-BD3E-40FD-A21C-AEBB0E6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EBEB-980B-4154-B357-FFCD510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DAC-C45A-4477-847C-F0663EB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2E46-16B4-4F50-823A-9B9A537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A57E-BCA7-4F73-967A-B01F42F4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FFEC-A2B5-4D7F-A745-AF9CBA4B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5829-5877-4FB8-8F54-ABB7D083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BCE29-D463-40A4-8C02-921CF12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DB03-BD32-4E67-A033-600369E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9238D-18E8-46F4-A13F-B816191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B20B9-B213-4334-9D18-785F79EC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F3B10-AD77-4715-96CD-7575B05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27843-B56E-405F-A98D-1959822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341-F90A-4AB0-97AB-87282F0A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B6448-1EA5-4D63-872B-775FCCC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C4675-C505-4E8A-A456-219B98F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CC6D-C4C7-46C9-801F-C16AED26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C4957-0280-4FC8-9E05-D618B3ED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1F18-410A-4D0A-AEC6-B7BB2C81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C24-96F4-43FD-8FA8-235E6D1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DC76-E3FC-41FE-8A43-483FD7E345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769D-9253-46E8-B5D6-5DA2F15EE4B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101-F6B9-4757-B520-7939C9D3FA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92E-00E2-41E8-9BF0-58602C771B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5BBD-E869-4449-B495-82B7A2DDA2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DB64-A04F-449B-98FB-8B4ED9E331A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E86F-4E19-485B-8ADF-E7FCB2DAAF9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 для граждан, в котором в краткой и доступной форме отражены основные параметры бюджета Междуреченского сельского поселения на 2023 год и плановый период 2024 и 2025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23 году бюджет состоит из 8 муниципальных программ это 55 % расходов всего бюдж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1834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оходы от оказания платных услу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00960" cy="1530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29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9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и налогово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828720" y="517680"/>
            <a:ext cx="8029440" cy="20923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229600" cy="186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395280" y="1989000"/>
          <a:ext cx="8137440" cy="406080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049400"/>
              </a:tblGrid>
              <a:tr h="62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90,23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9,9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63,8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35,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65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78,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54,98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24,4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85,5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79,73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89,9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63,84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39720" y="-122400"/>
            <a:ext cx="8120160" cy="14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71680" y="1214280"/>
          <a:ext cx="8218440" cy="457200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188,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218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231,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11,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21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78,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6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7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2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2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1000080" y="476280"/>
            <a:ext cx="8143920" cy="1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539640" y="492120"/>
          <a:ext cx="8280360" cy="4157640"/>
        </p:xfrm>
        <a:graphic>
          <a:graphicData uri="http://schemas.openxmlformats.org/drawingml/2006/table">
            <a:tbl>
              <a:tblPr/>
              <a:tblGrid>
                <a:gridCol w="5032440"/>
                <a:gridCol w="1160640"/>
                <a:gridCol w="1004760"/>
                <a:gridCol w="1082520"/>
              </a:tblGrid>
              <a:tr h="5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754,98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724,4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7685,5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435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444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444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220,98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177,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138,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990,23616</a:t>
                      </a: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989,9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9963,8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628640"/>
          </a:xfrm>
          <a:prstGeom prst="rect">
            <a:avLst/>
          </a:prstGeom>
          <a:ln w="0">
            <a:noFill/>
          </a:ln>
        </p:spPr>
      </p:pic>
      <p:pic>
        <p:nvPicPr>
          <p:cNvPr id="345" name="Таблица 3" descr=""/>
          <p:cNvPicPr/>
          <p:nvPr/>
        </p:nvPicPr>
        <p:blipFill>
          <a:blip r:embed="rId2"/>
          <a:stretch/>
        </p:blipFill>
        <p:spPr>
          <a:xfrm>
            <a:off x="647640" y="1598760"/>
            <a:ext cx="81136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4" descr=""/>
          <p:cNvPicPr/>
          <p:nvPr/>
        </p:nvPicPr>
        <p:blipFill>
          <a:blip r:embed="rId2"/>
          <a:stretch/>
        </p:blipFill>
        <p:spPr>
          <a:xfrm>
            <a:off x="717480" y="1967040"/>
            <a:ext cx="8043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3" descr=""/>
          <p:cNvPicPr/>
          <p:nvPr/>
        </p:nvPicPr>
        <p:blipFill>
          <a:blip r:embed="rId2"/>
          <a:stretch/>
        </p:blipFill>
        <p:spPr>
          <a:xfrm>
            <a:off x="914400" y="1968480"/>
            <a:ext cx="7477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42960" y="357120"/>
            <a:ext cx="7772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к бюджету Междуреченского сельского поселения на 2023 год и плановый период 2024 и 2025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22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457200" y="-1828800"/>
            <a:ext cx="822960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0" y="-479520"/>
          <a:ext cx="9177480" cy="7440840"/>
        </p:xfrm>
        <a:graphic>
          <a:graphicData uri="http://schemas.openxmlformats.org/drawingml/2006/table">
            <a:tbl>
              <a:tblPr/>
              <a:tblGrid>
                <a:gridCol w="1136520"/>
                <a:gridCol w="3000600"/>
                <a:gridCol w="1493640"/>
                <a:gridCol w="1533600"/>
                <a:gridCol w="2013120"/>
              </a:tblGrid>
              <a:tr h="63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79,73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97,1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77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61,50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61,50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35,83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Й ФО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,44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63,418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22,19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15,384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1,528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8,96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682560" y="-92160"/>
            <a:ext cx="82296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179280" y="1357200"/>
          <a:ext cx="8516880" cy="5500800"/>
        </p:xfrm>
        <a:graphic>
          <a:graphicData uri="http://schemas.openxmlformats.org/drawingml/2006/table">
            <a:tbl>
              <a:tblPr/>
              <a:tblGrid>
                <a:gridCol w="830520"/>
                <a:gridCol w="907920"/>
                <a:gridCol w="3398760"/>
                <a:gridCol w="1133640"/>
                <a:gridCol w="1133280"/>
                <a:gridCol w="1112760"/>
              </a:tblGrid>
              <a:tr h="73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61,50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61,50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35,83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2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 высшего должностного лица субъекта Российской Федерации 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9,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9,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9,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53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51,383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51,383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26,220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42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457200" y="1882800"/>
          <a:ext cx="8229600" cy="236376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7200" y="500040"/>
            <a:ext cx="822960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539640" y="2349360"/>
          <a:ext cx="8269560" cy="4251600"/>
        </p:xfrm>
        <a:graphic>
          <a:graphicData uri="http://schemas.openxmlformats.org/drawingml/2006/table">
            <a:tbl>
              <a:tblPr/>
              <a:tblGrid>
                <a:gridCol w="792360"/>
                <a:gridCol w="1068480"/>
                <a:gridCol w="3417840"/>
                <a:gridCol w="996840"/>
                <a:gridCol w="106056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902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Устойчивое Междуреченского сельского поселения на 2023-2025 годы»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Противопожарная защита населённых пунктов Междуреченского сельского посел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2760" y="171360"/>
            <a:ext cx="8474040" cy="17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457200" y="1882800"/>
          <a:ext cx="8229600" cy="3597120"/>
        </p:xfrm>
        <a:graphic>
          <a:graphicData uri="http://schemas.openxmlformats.org/drawingml/2006/table">
            <a:tbl>
              <a:tblPr/>
              <a:tblGrid>
                <a:gridCol w="1371600"/>
                <a:gridCol w="814320"/>
                <a:gridCol w="2143080"/>
                <a:gridCol w="1157400"/>
                <a:gridCol w="1371600"/>
                <a:gridCol w="1371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222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ожное хозяйство (дорожные фонд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,4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250920" y="1285920"/>
          <a:ext cx="8580240" cy="614844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1050840"/>
                <a:gridCol w="909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5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63,418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22,19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5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Устойчивое развитие сельских территорий Междуреченского сельского поселения  на 2023-2025 годы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9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Комплексное развитие сельских территорий Междуреченского сельского поселен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50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программа «Благоустройство Междуреченского сельского поселен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5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Энергосбережения и повышения энергетической эффективности в Междуреченском сельском поселении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Использование и охрана земель на территории Междуреченского сельского поселен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75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мероприятия в области Жилищно-коммунального хозяйства(управление М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55,94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3,418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72,197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5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395280" y="1989000"/>
          <a:ext cx="8319960" cy="360360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240000"/>
                <a:gridCol w="1079640"/>
                <a:gridCol w="1008000"/>
                <a:gridCol w="104760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15,384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1,528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8,96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4,853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24,17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10,418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жбюджетные трансферты на организацию библиотечного обслуживания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0,531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7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8,5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7200" y="420840"/>
            <a:ext cx="82296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457200" y="1600200"/>
          <a:ext cx="8435880" cy="418464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528720"/>
                <a:gridCol w="1079640"/>
                <a:gridCol w="1008000"/>
                <a:gridCol w="108108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283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Пенсионное обеспечение лиц, замещавших муниципальные должности и должности муниципальной службы в органах местного самоуправления Междуреченского сельского поселения 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,34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469800" y="76824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26960" y="-146160"/>
            <a:ext cx="8229600" cy="16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357120" y="714240"/>
          <a:ext cx="8291520" cy="7251840"/>
        </p:xfrm>
        <a:graphic>
          <a:graphicData uri="http://schemas.openxmlformats.org/drawingml/2006/table">
            <a:tbl>
              <a:tblPr/>
              <a:tblGrid>
                <a:gridCol w="1090800"/>
                <a:gridCol w="3844800"/>
                <a:gridCol w="1150920"/>
                <a:gridCol w="1125720"/>
                <a:gridCol w="1079280"/>
              </a:tblGrid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Совершенствование местного самоуправления Междуреченского сельского поселения и развитие муниципальной служб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18,731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18,731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93,568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стойчивое развитие сельских территорий Междуреченского сельского поселения на 2023-2025 год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1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1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 Заволжского муниципального района»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я и повышения энергетической эффективности в Междуреченском сельском поселении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pic>
        <p:nvPicPr>
          <p:cNvPr id="304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68360" y="333360"/>
          <a:ext cx="8207280" cy="6259680"/>
        </p:xfrm>
        <a:graphic>
          <a:graphicData uri="http://schemas.openxmlformats.org/drawingml/2006/table">
            <a:tbl>
              <a:tblPr/>
              <a:tblGrid>
                <a:gridCol w="1008000"/>
                <a:gridCol w="3743280"/>
                <a:gridCol w="1081080"/>
                <a:gridCol w="1224000"/>
                <a:gridCol w="1150920"/>
              </a:tblGrid>
              <a:tr h="77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79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униципальная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а "Управление муниципальным имуществом Междуреченского сельского посел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униципальная программа «Использование и охрана земель на территории Междуреченского сельского посел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культуры на территории Междуреченского сельского поселен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734,853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724,17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710,418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6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35,085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34,909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95,487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5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28760" y="2786040"/>
          <a:ext cx="8229600" cy="213372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5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2428"/>
                          </a:solidFill>
                          <a:latin typeface="Century Gothic"/>
                        </a:rPr>
                        <a:t>621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2428"/>
                          </a:solidFill>
                          <a:latin typeface="Century Gothic"/>
                        </a:rPr>
                        <a:t>43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2428"/>
                          </a:solidFill>
                          <a:latin typeface="Century Gothic"/>
                        </a:rPr>
                        <a:t>23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34,853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24,177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710,418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157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85840" y="2571840"/>
          <a:ext cx="8572320" cy="292572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218,731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118,731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193,568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19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19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19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4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457200" y="1882800"/>
          <a:ext cx="8229600" cy="1493640"/>
        </p:xfrm>
        <a:graphic>
          <a:graphicData uri="http://schemas.openxmlformats.org/drawingml/2006/table">
            <a:tbl>
              <a:tblPr/>
              <a:tblGrid>
                <a:gridCol w="3106800"/>
                <a:gridCol w="1800000"/>
                <a:gridCol w="1729080"/>
                <a:gridCol w="15937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6" descr=""/>
          <p:cNvPicPr/>
          <p:nvPr/>
        </p:nvPicPr>
        <p:blipFill>
          <a:blip r:embed="rId1"/>
          <a:stretch/>
        </p:blipFill>
        <p:spPr>
          <a:xfrm>
            <a:off x="360360" y="189000"/>
            <a:ext cx="8412120" cy="1212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313" name="_s1028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29"/>
            <p:cNvCxnSpPr>
              <a:stCxn id="317" idx="0"/>
              <a:endCxn id="315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1030"/>
            <p:cNvCxnSpPr>
              <a:stCxn id="319" idx="0"/>
              <a:endCxn id="315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5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682560" y="30240"/>
            <a:ext cx="8199360" cy="1822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циз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Владелец</cp:lastModifiedBy>
  <cp:lastPrinted>2013-11-26T12:28:35Z</cp:lastPrinted>
  <dcterms:modified xsi:type="dcterms:W3CDTF">2022-12-26T08:14:38Z</dcterms:modified>
  <cp:revision>511</cp:revision>
  <dc:subject/>
  <dc:title>БЮДЖЕТ  для  граждан </dc:title>
</cp:coreProperties>
</file>